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34D-C03D-4F0E-9C62-A90BE679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F0A0-3D0A-476A-9B0E-D8759182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F8D-5E5F-44FC-9081-EA88C0FB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FCD-9DC2-401B-A6BC-A3CD384F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ED1-F2AD-492E-AAC7-765CAFA5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9C9D-6606-4B24-A37D-85D09DB5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8B2-190A-466A-BB28-086B1B86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F90-D588-430F-BB24-508D6B0E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0F6-3CD9-41FF-8487-AB6442BA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0AA-7705-46D7-8672-8DB9459D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9FB-992D-475B-AEA5-A83FF46C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AAC-9E77-458E-8D71-E06C18FD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A223-74CF-4E73-8289-870671AF4EA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óstico das Hepatites Vir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aula Virginia Michelon Tole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ti HCV 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e confirmatório – biologia mole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CR quantitati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otipagem – 1a, 1b, 2, 3, 4, (5,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liação do grau de fibrose – no paciente sem sinais clínicos de cirrose e/ou hipertensão por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ti HBc IgG 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stes confirmatóri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 antiHbs + = imunida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bsAg + persiste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CR quantitati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aliação de imunotolerância ou de atividade da doenç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beAg, anti Hbe e PC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aliação do grau de fibrose – no paciente sem sinais clínicos de cirrose e/ou hipertensão port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82680" y="380880"/>
            <a:ext cx="84643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HBV história natural e reativ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43"/>
          <p:cNvSpPr/>
          <p:nvPr/>
        </p:nvSpPr>
        <p:spPr>
          <a:xfrm>
            <a:off x="7074000" y="22827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46"/>
          <p:cNvSpPr/>
          <p:nvPr/>
        </p:nvSpPr>
        <p:spPr>
          <a:xfrm flipV="1">
            <a:off x="560520" y="5873400"/>
            <a:ext cx="0" cy="268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48"/>
          <p:cNvSpPr/>
          <p:nvPr/>
        </p:nvSpPr>
        <p:spPr>
          <a:xfrm>
            <a:off x="341280" y="230832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unotolerânc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49"/>
          <p:cNvSpPr/>
          <p:nvPr/>
        </p:nvSpPr>
        <p:spPr>
          <a:xfrm>
            <a:off x="1572840" y="255096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unoclear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52"/>
          <p:cNvSpPr/>
          <p:nvPr/>
        </p:nvSpPr>
        <p:spPr>
          <a:xfrm>
            <a:off x="636480" y="1920960"/>
            <a:ext cx="5702400" cy="337320"/>
          </a:xfrm>
          <a:prstGeom prst="rect">
            <a:avLst/>
          </a:prstGeom>
          <a:solidFill>
            <a:srgbClr val="4f81bd"/>
          </a:solidFill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BeAg+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BeAg-       anti-HBe+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53"/>
          <p:cNvSpPr/>
          <p:nvPr/>
        </p:nvSpPr>
        <p:spPr>
          <a:xfrm>
            <a:off x="2627280" y="1917720"/>
            <a:ext cx="704880" cy="333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55"/>
          <p:cNvSpPr/>
          <p:nvPr/>
        </p:nvSpPr>
        <p:spPr>
          <a:xfrm flipV="1">
            <a:off x="1650960" y="2849400"/>
            <a:ext cx="0" cy="299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56"/>
          <p:cNvSpPr/>
          <p:nvPr/>
        </p:nvSpPr>
        <p:spPr>
          <a:xfrm flipV="1">
            <a:off x="3056040" y="2849400"/>
            <a:ext cx="0" cy="299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57"/>
          <p:cNvSpPr/>
          <p:nvPr/>
        </p:nvSpPr>
        <p:spPr>
          <a:xfrm>
            <a:off x="811080" y="49831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G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58"/>
          <p:cNvSpPr/>
          <p:nvPr/>
        </p:nvSpPr>
        <p:spPr>
          <a:xfrm>
            <a:off x="420840" y="2787480"/>
            <a:ext cx="0" cy="306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59"/>
          <p:cNvSpPr/>
          <p:nvPr/>
        </p:nvSpPr>
        <p:spPr>
          <a:xfrm>
            <a:off x="571680" y="2982960"/>
            <a:ext cx="1069920" cy="7776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152" h="56">
                <a:moveTo>
                  <a:pt x="0" y="8"/>
                </a:moveTo>
                <a:cubicBezTo>
                  <a:pt x="52" y="4"/>
                  <a:pt x="104" y="0"/>
                  <a:pt x="144" y="8"/>
                </a:cubicBezTo>
                <a:cubicBezTo>
                  <a:pt x="184" y="16"/>
                  <a:pt x="200" y="56"/>
                  <a:pt x="240" y="56"/>
                </a:cubicBezTo>
                <a:cubicBezTo>
                  <a:pt x="280" y="56"/>
                  <a:pt x="328" y="8"/>
                  <a:pt x="384" y="8"/>
                </a:cubicBezTo>
                <a:cubicBezTo>
                  <a:pt x="440" y="8"/>
                  <a:pt x="512" y="56"/>
                  <a:pt x="576" y="56"/>
                </a:cubicBezTo>
                <a:cubicBezTo>
                  <a:pt x="640" y="56"/>
                  <a:pt x="696" y="8"/>
                  <a:pt x="768" y="8"/>
                </a:cubicBezTo>
                <a:cubicBezTo>
                  <a:pt x="840" y="8"/>
                  <a:pt x="944" y="56"/>
                  <a:pt x="1008" y="56"/>
                </a:cubicBezTo>
                <a:cubicBezTo>
                  <a:pt x="1072" y="56"/>
                  <a:pt x="1128" y="16"/>
                  <a:pt x="1152" y="8"/>
                </a:cubicBezTo>
              </a:path>
            </a:pathLst>
          </a:custGeom>
          <a:noFill/>
          <a:ln w="2844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60"/>
          <p:cNvSpPr/>
          <p:nvPr/>
        </p:nvSpPr>
        <p:spPr>
          <a:xfrm>
            <a:off x="1652760" y="2960640"/>
            <a:ext cx="1403280" cy="898560"/>
          </a:xfrm>
          <a:custGeom>
            <a:avLst/>
            <a:gdLst>
              <a:gd name="textAreaLeft" fmla="*/ 0 w 1403280"/>
              <a:gd name="textAreaRight" fmla="*/ 1403280 w 140328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1488" h="648">
                <a:moveTo>
                  <a:pt x="0" y="16"/>
                </a:moveTo>
                <a:cubicBezTo>
                  <a:pt x="104" y="280"/>
                  <a:pt x="208" y="544"/>
                  <a:pt x="288" y="544"/>
                </a:cubicBezTo>
                <a:cubicBezTo>
                  <a:pt x="368" y="544"/>
                  <a:pt x="408" y="0"/>
                  <a:pt x="480" y="16"/>
                </a:cubicBezTo>
                <a:cubicBezTo>
                  <a:pt x="552" y="32"/>
                  <a:pt x="632" y="632"/>
                  <a:pt x="720" y="640"/>
                </a:cubicBezTo>
                <a:cubicBezTo>
                  <a:pt x="808" y="648"/>
                  <a:pt x="920" y="72"/>
                  <a:pt x="1008" y="64"/>
                </a:cubicBezTo>
                <a:cubicBezTo>
                  <a:pt x="1096" y="56"/>
                  <a:pt x="1168" y="568"/>
                  <a:pt x="1248" y="592"/>
                </a:cubicBezTo>
                <a:cubicBezTo>
                  <a:pt x="1328" y="616"/>
                  <a:pt x="1448" y="272"/>
                  <a:pt x="1488" y="208"/>
                </a:cubicBezTo>
              </a:path>
            </a:pathLst>
          </a:custGeom>
          <a:noFill/>
          <a:ln w="2844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63"/>
          <p:cNvSpPr/>
          <p:nvPr/>
        </p:nvSpPr>
        <p:spPr>
          <a:xfrm>
            <a:off x="3056040" y="2827440"/>
            <a:ext cx="5572080" cy="2928960"/>
          </a:xfrm>
          <a:custGeom>
            <a:avLst/>
            <a:gdLst>
              <a:gd name="textAreaLeft" fmla="*/ 0 w 5572080"/>
              <a:gd name="textAreaRight" fmla="*/ 5572440 w 5572080"/>
              <a:gd name="textAreaTop" fmla="*/ 0 h 2928960"/>
              <a:gd name="textAreaBottom" fmla="*/ 2929320 h 2928960"/>
            </a:gdLst>
            <a:ahLst/>
            <a:rect l="textAreaLeft" t="textAreaTop" r="textAreaRight" b="textAreaBottom"/>
            <a:pathLst>
              <a:path w="3648" h="2112">
                <a:moveTo>
                  <a:pt x="0" y="304"/>
                </a:moveTo>
                <a:cubicBezTo>
                  <a:pt x="36" y="152"/>
                  <a:pt x="72" y="0"/>
                  <a:pt x="144" y="208"/>
                </a:cubicBezTo>
                <a:cubicBezTo>
                  <a:pt x="216" y="416"/>
                  <a:pt x="288" y="1248"/>
                  <a:pt x="432" y="1552"/>
                </a:cubicBezTo>
                <a:cubicBezTo>
                  <a:pt x="576" y="1856"/>
                  <a:pt x="472" y="1952"/>
                  <a:pt x="1008" y="2032"/>
                </a:cubicBezTo>
                <a:cubicBezTo>
                  <a:pt x="1544" y="2112"/>
                  <a:pt x="3208" y="2032"/>
                  <a:pt x="3648" y="2032"/>
                </a:cubicBezTo>
              </a:path>
            </a:pathLst>
          </a:custGeom>
          <a:noFill/>
          <a:ln w="2844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64"/>
          <p:cNvSpPr/>
          <p:nvPr/>
        </p:nvSpPr>
        <p:spPr>
          <a:xfrm>
            <a:off x="4460760" y="3044880"/>
            <a:ext cx="3740400" cy="2584440"/>
          </a:xfrm>
          <a:custGeom>
            <a:avLst/>
            <a:gdLst>
              <a:gd name="textAreaLeft" fmla="*/ 0 w 3740400"/>
              <a:gd name="textAreaRight" fmla="*/ 3740760 w 3740400"/>
              <a:gd name="textAreaTop" fmla="*/ 0 h 2584440"/>
              <a:gd name="textAreaBottom" fmla="*/ 2584800 h 2584440"/>
            </a:gdLst>
            <a:ahLst/>
            <a:rect l="textAreaLeft" t="textAreaTop" r="textAreaRight" b="textAreaBottom"/>
            <a:pathLst>
              <a:path w="2448" h="1864">
                <a:moveTo>
                  <a:pt x="0" y="1856"/>
                </a:moveTo>
                <a:cubicBezTo>
                  <a:pt x="216" y="1860"/>
                  <a:pt x="432" y="1864"/>
                  <a:pt x="576" y="1712"/>
                </a:cubicBezTo>
                <a:cubicBezTo>
                  <a:pt x="720" y="1560"/>
                  <a:pt x="712" y="1144"/>
                  <a:pt x="864" y="944"/>
                </a:cubicBezTo>
                <a:cubicBezTo>
                  <a:pt x="1016" y="744"/>
                  <a:pt x="1320" y="656"/>
                  <a:pt x="1488" y="512"/>
                </a:cubicBezTo>
                <a:cubicBezTo>
                  <a:pt x="1656" y="368"/>
                  <a:pt x="1712" y="160"/>
                  <a:pt x="1872" y="80"/>
                </a:cubicBezTo>
                <a:cubicBezTo>
                  <a:pt x="2032" y="0"/>
                  <a:pt x="2352" y="40"/>
                  <a:pt x="2448" y="32"/>
                </a:cubicBezTo>
              </a:path>
            </a:pathLst>
          </a:custGeom>
          <a:noFill/>
          <a:ln w="2844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66"/>
          <p:cNvSpPr/>
          <p:nvPr/>
        </p:nvSpPr>
        <p:spPr>
          <a:xfrm>
            <a:off x="629280" y="31003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BV D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68"/>
          <p:cNvSpPr/>
          <p:nvPr/>
        </p:nvSpPr>
        <p:spPr>
          <a:xfrm>
            <a:off x="6321600" y="1908000"/>
            <a:ext cx="2433600" cy="36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69"/>
          <p:cNvSpPr/>
          <p:nvPr/>
        </p:nvSpPr>
        <p:spPr>
          <a:xfrm>
            <a:off x="6890040" y="192888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BeAg+ ou 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0"/>
          <p:cNvSpPr/>
          <p:nvPr/>
        </p:nvSpPr>
        <p:spPr>
          <a:xfrm>
            <a:off x="3687840" y="2373480"/>
            <a:ext cx="2565360" cy="337320"/>
          </a:xfrm>
          <a:prstGeom prst="rect">
            <a:avLst/>
          </a:prstGeom>
          <a:solidFill>
            <a:srgbClr val="a6a6a6"/>
          </a:solid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upress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6"/>
          <p:cNvSpPr/>
          <p:nvPr/>
        </p:nvSpPr>
        <p:spPr>
          <a:xfrm>
            <a:off x="6265800" y="2373480"/>
            <a:ext cx="2567160" cy="337320"/>
          </a:xfrm>
          <a:prstGeom prst="rect">
            <a:avLst/>
          </a:prstGeom>
          <a:solidFill>
            <a:srgbClr val="ff0000"/>
          </a:solid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reativaç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77"/>
          <p:cNvSpPr/>
          <p:nvPr/>
        </p:nvSpPr>
        <p:spPr>
          <a:xfrm>
            <a:off x="415800" y="5832360"/>
            <a:ext cx="8359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41"/>
          <p:cNvSpPr/>
          <p:nvPr/>
        </p:nvSpPr>
        <p:spPr>
          <a:xfrm>
            <a:off x="3056040" y="5168880"/>
            <a:ext cx="5646600" cy="409680"/>
          </a:xfrm>
          <a:custGeom>
            <a:avLst/>
            <a:gdLst>
              <a:gd name="textAreaLeft" fmla="*/ 0 w 5646600"/>
              <a:gd name="textAreaRight" fmla="*/ 5646960 w 564660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496" h="296">
                <a:moveTo>
                  <a:pt x="0" y="0"/>
                </a:moveTo>
                <a:cubicBezTo>
                  <a:pt x="12" y="96"/>
                  <a:pt x="24" y="192"/>
                  <a:pt x="144" y="240"/>
                </a:cubicBezTo>
                <a:cubicBezTo>
                  <a:pt x="264" y="288"/>
                  <a:pt x="328" y="280"/>
                  <a:pt x="720" y="288"/>
                </a:cubicBezTo>
                <a:cubicBezTo>
                  <a:pt x="1112" y="296"/>
                  <a:pt x="2200" y="288"/>
                  <a:pt x="2496" y="288"/>
                </a:cubicBezTo>
              </a:path>
            </a:pathLst>
          </a:cu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2"/>
          <p:cNvSpPr/>
          <p:nvPr/>
        </p:nvSpPr>
        <p:spPr>
          <a:xfrm flipV="1">
            <a:off x="1650960" y="4557600"/>
            <a:ext cx="1397160" cy="898560"/>
          </a:xfrm>
          <a:custGeom>
            <a:avLst/>
            <a:gdLst>
              <a:gd name="textAreaLeft" fmla="*/ 0 w 1397160"/>
              <a:gd name="textAreaRight" fmla="*/ 1397520 w 1397160"/>
              <a:gd name="textAreaTop" fmla="*/ 360 h 898560"/>
              <a:gd name="textAreaBottom" fmla="*/ 899280 h 898560"/>
            </a:gdLst>
            <a:ahLst/>
            <a:rect l="textAreaLeft" t="textAreaTop" r="textAreaRight" b="textAreaBottom"/>
            <a:pathLst>
              <a:path w="1488" h="648">
                <a:moveTo>
                  <a:pt x="0" y="16"/>
                </a:moveTo>
                <a:cubicBezTo>
                  <a:pt x="104" y="280"/>
                  <a:pt x="208" y="544"/>
                  <a:pt x="288" y="544"/>
                </a:cubicBezTo>
                <a:cubicBezTo>
                  <a:pt x="368" y="544"/>
                  <a:pt x="408" y="0"/>
                  <a:pt x="480" y="16"/>
                </a:cubicBezTo>
                <a:cubicBezTo>
                  <a:pt x="552" y="32"/>
                  <a:pt x="632" y="632"/>
                  <a:pt x="720" y="640"/>
                </a:cubicBezTo>
                <a:cubicBezTo>
                  <a:pt x="808" y="648"/>
                  <a:pt x="920" y="72"/>
                  <a:pt x="1008" y="64"/>
                </a:cubicBezTo>
                <a:cubicBezTo>
                  <a:pt x="1096" y="56"/>
                  <a:pt x="1168" y="568"/>
                  <a:pt x="1248" y="592"/>
                </a:cubicBezTo>
                <a:cubicBezTo>
                  <a:pt x="1328" y="616"/>
                  <a:pt x="1448" y="272"/>
                  <a:pt x="1488" y="208"/>
                </a:cubicBezTo>
              </a:path>
            </a:pathLst>
          </a:cu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65"/>
          <p:cNvSpPr/>
          <p:nvPr/>
        </p:nvSpPr>
        <p:spPr>
          <a:xfrm rot="21233400">
            <a:off x="5769000" y="3247920"/>
            <a:ext cx="2933640" cy="2274840"/>
          </a:xfrm>
          <a:custGeom>
            <a:avLst/>
            <a:gdLst>
              <a:gd name="textAreaLeft" fmla="*/ 0 w 2933640"/>
              <a:gd name="textAreaRight" fmla="*/ 2934000 w 293364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920" h="1640">
                <a:moveTo>
                  <a:pt x="0" y="1560"/>
                </a:moveTo>
                <a:cubicBezTo>
                  <a:pt x="164" y="1600"/>
                  <a:pt x="328" y="1640"/>
                  <a:pt x="528" y="1416"/>
                </a:cubicBezTo>
                <a:cubicBezTo>
                  <a:pt x="728" y="1192"/>
                  <a:pt x="968" y="432"/>
                  <a:pt x="1200" y="216"/>
                </a:cubicBezTo>
                <a:cubicBezTo>
                  <a:pt x="1432" y="0"/>
                  <a:pt x="1800" y="136"/>
                  <a:pt x="1920" y="120"/>
                </a:cubicBezTo>
              </a:path>
            </a:pathLst>
          </a:cu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78"/>
          <p:cNvSpPr/>
          <p:nvPr/>
        </p:nvSpPr>
        <p:spPr>
          <a:xfrm flipV="1">
            <a:off x="581040" y="5369040"/>
            <a:ext cx="1069920" cy="64800"/>
          </a:xfrm>
          <a:custGeom>
            <a:avLst/>
            <a:gdLst>
              <a:gd name="textAreaLeft" fmla="*/ 0 w 1069920"/>
              <a:gd name="textAreaRight" fmla="*/ 1070280 w 1069920"/>
              <a:gd name="textAreaTop" fmla="*/ 360 h 64800"/>
              <a:gd name="textAreaBottom" fmla="*/ 65520 h 64800"/>
            </a:gdLst>
            <a:ahLst/>
            <a:rect l="textAreaLeft" t="textAreaTop" r="textAreaRight" b="textAreaBottom"/>
            <a:pathLst>
              <a:path w="1152" h="56">
                <a:moveTo>
                  <a:pt x="0" y="8"/>
                </a:moveTo>
                <a:cubicBezTo>
                  <a:pt x="52" y="4"/>
                  <a:pt x="104" y="0"/>
                  <a:pt x="144" y="8"/>
                </a:cubicBezTo>
                <a:cubicBezTo>
                  <a:pt x="184" y="16"/>
                  <a:pt x="200" y="56"/>
                  <a:pt x="240" y="56"/>
                </a:cubicBezTo>
                <a:cubicBezTo>
                  <a:pt x="280" y="56"/>
                  <a:pt x="328" y="8"/>
                  <a:pt x="384" y="8"/>
                </a:cubicBezTo>
                <a:cubicBezTo>
                  <a:pt x="440" y="8"/>
                  <a:pt x="512" y="56"/>
                  <a:pt x="576" y="56"/>
                </a:cubicBezTo>
                <a:cubicBezTo>
                  <a:pt x="640" y="56"/>
                  <a:pt x="696" y="8"/>
                  <a:pt x="768" y="8"/>
                </a:cubicBezTo>
                <a:cubicBezTo>
                  <a:pt x="840" y="8"/>
                  <a:pt x="944" y="56"/>
                  <a:pt x="1008" y="56"/>
                </a:cubicBezTo>
                <a:cubicBezTo>
                  <a:pt x="1072" y="56"/>
                  <a:pt x="1128" y="16"/>
                  <a:pt x="1152" y="8"/>
                </a:cubicBezTo>
              </a:path>
            </a:pathLst>
          </a:cu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800"/>
          <p:cNvSpPr/>
          <p:nvPr/>
        </p:nvSpPr>
        <p:spPr>
          <a:xfrm>
            <a:off x="985680" y="6474600"/>
            <a:ext cx="861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ofnagle JH. Hepatology. 2009;49(5 suppl):S156-S16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45"/>
          <p:cNvSpPr/>
          <p:nvPr/>
        </p:nvSpPr>
        <p:spPr>
          <a:xfrm>
            <a:off x="5657760" y="1922400"/>
            <a:ext cx="3095640" cy="344520"/>
          </a:xfrm>
          <a:custGeom>
            <a:avLst/>
            <a:gdLst>
              <a:gd name="textAreaLeft" fmla="*/ 0 w 3095640"/>
              <a:gd name="textAreaRight" fmla="*/ 3096000 w 309564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3081338" h="357188">
                <a:moveTo>
                  <a:pt x="461963" y="342900"/>
                </a:moveTo>
                <a:lnTo>
                  <a:pt x="3076575" y="357188"/>
                </a:lnTo>
                <a:cubicBezTo>
                  <a:pt x="3078163" y="238125"/>
                  <a:pt x="3079750" y="119063"/>
                  <a:pt x="3081338" y="0"/>
                </a:cubicBezTo>
                <a:lnTo>
                  <a:pt x="0" y="2381"/>
                </a:lnTo>
              </a:path>
            </a:pathLst>
          </a:custGeom>
          <a:noFill/>
          <a:ln w="28440">
            <a:solidFill>
              <a:srgbClr val="eeece1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79"/>
          <p:cNvSpPr/>
          <p:nvPr/>
        </p:nvSpPr>
        <p:spPr>
          <a:xfrm>
            <a:off x="5626080" y="1917720"/>
            <a:ext cx="706320" cy="3445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4"/>
          <p:cNvSpPr/>
          <p:nvPr/>
        </p:nvSpPr>
        <p:spPr>
          <a:xfrm>
            <a:off x="392040" y="5859360"/>
            <a:ext cx="12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5-30 an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45"/>
          <p:cNvSpPr/>
          <p:nvPr/>
        </p:nvSpPr>
        <p:spPr>
          <a:xfrm>
            <a:off x="1718640" y="585936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eses-an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5"/>
          <p:cNvSpPr/>
          <p:nvPr/>
        </p:nvSpPr>
        <p:spPr>
          <a:xfrm>
            <a:off x="5490360" y="583416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eses-an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8"/>
          <p:cNvSpPr/>
          <p:nvPr/>
        </p:nvSpPr>
        <p:spPr>
          <a:xfrm>
            <a:off x="3168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Imagem 7" descr="bbmapAsset.gif"/>
          <p:cNvPicPr/>
          <p:nvPr/>
        </p:nvPicPr>
        <p:blipFill>
          <a:blip r:embed="rId1"/>
          <a:stretch/>
        </p:blipFill>
        <p:spPr>
          <a:xfrm>
            <a:off x="1116000" y="604800"/>
            <a:ext cx="73072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rologia hepatite 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ti Hbc – significa contato prévio com o HB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ti Hbs – significa imunidade passiva ou ativ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ti Hb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de estar presente no paciente com hepatite crônica que passou por uma fase de imunoclearance e não cur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bc Ag – só no hepatócit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bs Ag – plasma – significa doença crôn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be Ag – plasm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ifica que o paciente é imunotolerante neste momento (mas já pode ter tido atividade inflamatória ineficaz anteriormen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is pacientes devem realizar anti HCV e AntiHBc/HbsA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stant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IV+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ença renal / diáli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ceptores de hemoderivados antes de 1995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uarios de drogas IV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S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miliares de portadores de hepatite B ou 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utras doenças hepátic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enças reumatológic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é-transpla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sed opportunities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mem, 35a, consulta de “check up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ga HMP e medicaçõ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cendente de chineses, pai com CA gastrointestin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 cervejas/semana, nega tabagis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sado, filhos de 3 e 7 an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minstra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F – normal, exceto por hemorroi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mograma e metabólico norma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caminhado para o proctologis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torno ann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oltou 12 anos depoi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7a, bem sucedido, mais cansado, 1 taça de vinho ao dia, filhos de 3, 15 e 19an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ucograma 3200 celulas/m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GP 22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bs Ag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CR HBV não detec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 Hbe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grafia – massa de 6cm lobo hepático esquer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Óbito em 1 ano, 2 filhos HBV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o clínico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iente assintomático, encaminhado do banco de sangue por anti HCV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l paciente tem hepatit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Resultado de imagem para hepatite cronica"/>
          <p:cNvPicPr/>
          <p:nvPr/>
        </p:nvPicPr>
        <p:blipFill>
          <a:blip r:embed="rId1"/>
          <a:stretch/>
        </p:blipFill>
        <p:spPr>
          <a:xfrm>
            <a:off x="4214880" y="4929120"/>
            <a:ext cx="2428920" cy="1886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Resultado de imagem para hepatite cronica"/>
          <p:cNvPicPr/>
          <p:nvPr/>
        </p:nvPicPr>
        <p:blipFill>
          <a:blip r:embed="rId2"/>
          <a:stretch/>
        </p:blipFill>
        <p:spPr>
          <a:xfrm>
            <a:off x="76320" y="4648320"/>
            <a:ext cx="2066760" cy="2209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static.tudointeressante.com.br/uploads/2015/03/pessoas-idosas-tatuadas-5.jpg"/>
          <p:cNvPicPr/>
          <p:nvPr/>
        </p:nvPicPr>
        <p:blipFill>
          <a:blip r:embed="rId3"/>
          <a:srcRect l="0" t="8759" r="16717" b="14170"/>
          <a:stretch/>
        </p:blipFill>
        <p:spPr>
          <a:xfrm>
            <a:off x="6786720" y="3929040"/>
            <a:ext cx="2286000" cy="2793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://www.mulherbeleza.com.br/wp-content/uploads/2010/04/bb99cbc2e4f74c95b1d54a0baf8e3d83.jpg"/>
          <p:cNvPicPr/>
          <p:nvPr/>
        </p:nvPicPr>
        <p:blipFill>
          <a:blip r:embed="rId4"/>
          <a:stretch/>
        </p:blipFill>
        <p:spPr>
          <a:xfrm>
            <a:off x="4243320" y="3286080"/>
            <a:ext cx="211464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www.bokelberg.com/stock-photos/336x224/velho-homem-pessoas-homens-idosos-sal-10105949.jpg"/>
          <p:cNvPicPr/>
          <p:nvPr/>
        </p:nvPicPr>
        <p:blipFill>
          <a:blip r:embed="rId5"/>
          <a:stretch/>
        </p:blipFill>
        <p:spPr>
          <a:xfrm>
            <a:off x="142920" y="1143000"/>
            <a:ext cx="2281320" cy="152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http://www.everardogarza.com/images/SIDA_1.jpg"/>
          <p:cNvPicPr/>
          <p:nvPr/>
        </p:nvPicPr>
        <p:blipFill>
          <a:blip r:embed="rId6"/>
          <a:srcRect l="51867" t="7028" r="6145" b="18673"/>
          <a:stretch/>
        </p:blipFill>
        <p:spPr>
          <a:xfrm>
            <a:off x="2214720" y="4287960"/>
            <a:ext cx="1722240" cy="2498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Resultado de imagem para ADULTO JOVEM"/>
          <p:cNvPicPr/>
          <p:nvPr/>
        </p:nvPicPr>
        <p:blipFill>
          <a:blip r:embed="rId7"/>
          <a:srcRect l="0" t="0" r="34056" b="0"/>
          <a:stretch/>
        </p:blipFill>
        <p:spPr>
          <a:xfrm>
            <a:off x="214200" y="2786040"/>
            <a:ext cx="175284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Resultado de imagem para ADULTO JOVEM"/>
          <p:cNvPicPr/>
          <p:nvPr/>
        </p:nvPicPr>
        <p:blipFill>
          <a:blip r:embed="rId8"/>
          <a:stretch/>
        </p:blipFill>
        <p:spPr>
          <a:xfrm>
            <a:off x="2519280" y="1785960"/>
            <a:ext cx="1552680" cy="2333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Resultado de imagem para GESTANTE"/>
          <p:cNvPicPr/>
          <p:nvPr/>
        </p:nvPicPr>
        <p:blipFill>
          <a:blip r:embed="rId9"/>
          <a:srcRect l="0" t="0" r="18926" b="0"/>
          <a:stretch/>
        </p:blipFill>
        <p:spPr>
          <a:xfrm>
            <a:off x="4286160" y="1285920"/>
            <a:ext cx="2000520" cy="1847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http://i.imgur.com/QHdRjpR.jpg"/>
          <p:cNvPicPr/>
          <p:nvPr/>
        </p:nvPicPr>
        <p:blipFill>
          <a:blip r:embed="rId10"/>
          <a:srcRect l="25529" t="15040" r="5949" b="11651"/>
          <a:stretch/>
        </p:blipFill>
        <p:spPr>
          <a:xfrm>
            <a:off x="6429240" y="1571760"/>
            <a:ext cx="27147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liação clínica buscand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-infecçõ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ras causas de dano hepát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tomas e sinais de hepatopatia crô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e confirmató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liação do grau de fibrose hepá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open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o Clínico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 Hbs NR e anti Hbc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 a condu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o clínico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stante de 20 semanas com  Hbs Ag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liação clínica buscand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-infecçõ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utras causas de dano hepát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ntomas e sinais de hepatopatia crô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e confirmatório e avaliação de atividade da doença ou imunotolerâ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stante de 20 semanas com Hbe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CR &gt;1.000.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tar a mãe + Imunoglobulina e vacina para 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o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iente com HIV+HB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bsAg +, HbeAg NR, PCR HBV 1000 cóp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V+HB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tar com antivirais com cobertura para ambos os vír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ofovir + lamivud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itar monoterapia com lamivud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.D.S., 43 anos, anti Hbc + ao doar sang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aso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ço Reservado para Conteúdo 1"/>
          <p:cNvSpPr/>
          <p:nvPr/>
        </p:nvSpPr>
        <p:spPr>
          <a:xfrm>
            <a:off x="711360" y="2819520"/>
            <a:ext cx="774684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  <a:ea typeface="ＭＳ Ｐゴシック"/>
              </a:rPr>
              <a:t>Hbs Ag 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  <a:ea typeface="ＭＳ Ｐゴシック"/>
              </a:rPr>
              <a:t>Hbe Ag N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  <a:ea typeface="ＭＳ Ｐゴシック"/>
              </a:rPr>
              <a:t>Anti Hbe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  <a:ea typeface="ＭＳ Ｐゴシック"/>
              </a:rPr>
              <a:t>TGP = 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  <a:ea typeface="ＭＳ Ｐゴシック"/>
              </a:rPr>
              <a:t>HBV-DNA 269 cópi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  <a:ea typeface="ＭＳ Ｐゴシック"/>
              </a:rPr>
              <a:t>Após 1 ano: HBV-DNA 13657 cópias e TGP = 4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  <a:ea typeface="ＭＳ Ｐゴシック"/>
              </a:rPr>
              <a:t>Biópsia A2F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pat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udas: HAV, HBV, HC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erencial hepatites agudas: alcoólica, medicamentosa, outras síndromes ictéricas feb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ônicas: HBV e HC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erencial hepatopatias crônicas: álcool, esteatohepatite não alcóolica, auto-imune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pat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gudas: dor abdominal, dispepsia, febre, icterícia (colúria, acolia), apenas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GO/TGP transitória e assintomát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ngo período assintomát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ônicas: sinais e sintomas de disfunção hepática – hipoalbuminemia e distúrbios de coagulação, hipertensão portal e acúmulo de amôn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o diagnosticar pacientes com sintomas de hepatite agu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pidemiolog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patites virais, doenças endêmicas, dro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íveis de transaminas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lirrubin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as de colesta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unção hepática – albumina e TA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cograf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ROLOGI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iHAV Ig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i HBc IgM, Hbs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i HC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o diagnosticar pacientes com sintomas de hepatite crôn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tabolismo, obesida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pidemiolog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patites virais, álcool, HI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íveis de transaminas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lirrubin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as de colesta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unção hepática – albumina e TA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cograf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ROLOGI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i HBc IgG, Hbs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i HC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as.miami.edu/chemistry/2086/Chap%2024/Chapter%2024-newPART2_files/image016.jpg"/>
          <p:cNvPicPr/>
          <p:nvPr/>
        </p:nvPicPr>
        <p:blipFill>
          <a:blip r:embed="rId1"/>
          <a:stretch/>
        </p:blipFill>
        <p:spPr>
          <a:xfrm>
            <a:off x="762120" y="1209600"/>
            <a:ext cx="765468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Rectangle 2" descr=""/>
          <p:cNvPicPr/>
          <p:nvPr/>
        </p:nvPicPr>
        <p:blipFill>
          <a:blip r:embed="rId1"/>
          <a:stretch/>
        </p:blipFill>
        <p:spPr>
          <a:xfrm>
            <a:off x="682560" y="298440"/>
            <a:ext cx="7937640" cy="123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gut.bmj.com/content/58/6/846/F6.large.jpg"/>
          <p:cNvPicPr/>
          <p:nvPr/>
        </p:nvPicPr>
        <p:blipFill>
          <a:blip r:embed="rId2"/>
          <a:stretch/>
        </p:blipFill>
        <p:spPr>
          <a:xfrm>
            <a:off x="971640" y="1052640"/>
            <a:ext cx="709272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1" descr="imagesCAU2Q4SX.jpg"/>
          <p:cNvPicPr/>
          <p:nvPr/>
        </p:nvPicPr>
        <p:blipFill>
          <a:blip r:embed="rId1"/>
          <a:stretch/>
        </p:blipFill>
        <p:spPr>
          <a:xfrm>
            <a:off x="0" y="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perlbal.hi-pi.com/blog-images/331855/gd/1188416235/cirrose.jpg"/>
          <p:cNvPicPr/>
          <p:nvPr/>
        </p:nvPicPr>
        <p:blipFill>
          <a:blip r:embed="rId2"/>
          <a:stretch/>
        </p:blipFill>
        <p:spPr>
          <a:xfrm>
            <a:off x="2590920" y="1676520"/>
            <a:ext cx="4559040" cy="3454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http://www.gastroalgarve.com/images/figado/varizes.jpg"/>
          <p:cNvPicPr/>
          <p:nvPr/>
        </p:nvPicPr>
        <p:blipFill>
          <a:blip r:embed="rId3"/>
          <a:stretch/>
        </p:blipFill>
        <p:spPr>
          <a:xfrm>
            <a:off x="6134040" y="3371760"/>
            <a:ext cx="300996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20:16:45Z</dcterms:created>
  <dc:creator>TOSHIBA</dc:creator>
  <dc:description/>
  <dc:language>en-US</dc:language>
  <cp:lastModifiedBy>SESA</cp:lastModifiedBy>
  <dcterms:modified xsi:type="dcterms:W3CDTF">2015-08-03T17:37:56Z</dcterms:modified>
  <cp:revision>21</cp:revision>
  <dc:subject/>
  <dc:title>Diagnóstico das Hepatites Virais</dc:title>
</cp:coreProperties>
</file>