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752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52040"/>
              <a:gd name="textAreaBottom" fmla="*/ 9751680 h 9752040"/>
            </a:gdLst>
            <a:ahLst/>
            <a:rect l="textAreaLeft" t="textAreaTop" r="textAreaRight" b="textAreaBottom"/>
            <a:pathLst>
              <a:path w="21600" h="30715">
                <a:moveTo>
                  <a:pt x="5" y="0"/>
                </a:moveTo>
                <a:arcTo wR="5" hR="5" stAng="16200000" swAng="-5400000"/>
                <a:lnTo>
                  <a:pt x="0" y="30710"/>
                </a:lnTo>
                <a:arcTo wR="5" hR="5" stAng="10800000" swAng="-5400000"/>
                <a:lnTo>
                  <a:pt x="21595" y="30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440" y="46306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ABE4E-7F24-426B-B1AC-6DBE78FA60D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EA236-7A7C-4ECC-BF55-77DE2C9ECFB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990720" y="73188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63091-1E7A-40B5-9259-0BF88A528B9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C1F1C-F0DC-46AE-AD41-84E8115C56D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2C182-3C60-44DD-BD22-54E3B63D56B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E8CF1-F97F-4847-B86E-36FDC7006DB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767BF-1EEC-4BAF-9B74-5F7F29CC3CA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7FC68-D7FB-4A88-8820-3F3140F0A05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3EA82-ACC6-4CD7-A025-470EC267B18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6450-6A5A-4884-B01E-88CE4F43390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A3053-82C8-4497-9BBC-BF2FFBCD81F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B598-C0D4-42F6-8047-8D4C2D5C1B7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296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A9BB6-D133-4813-BEBE-9077AFE8085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1FD-43D6-4242-B813-1FBAF81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37B-4D1E-4F54-BF8E-59145B3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257-836E-44ED-98F1-A2EE9DC4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C2E-1624-4496-8C9A-C2099AAD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8A3-435B-4D38-B45C-180A1BCB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854-35B5-4B7F-A1EC-88E01B2E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64E-2825-49BE-8B2B-B763A4ED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E96-D33B-4634-88C8-4A63A60A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184-5BA5-4A14-9ADC-9021CDD3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1302-9423-46F6-8E8C-B7E62112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C67-8687-4647-B4B3-FA222784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260-AA40-40CF-85B0-E0C50807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D271-B761-447D-936F-32BB5B7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2662-26FF-43F7-A918-EF45ECC7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7EBE-D0DB-4827-BB9C-E58BEEE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85D5-9F63-4E5C-BE07-59AC2442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228F-C5EC-4107-9CE1-4BAEAAF6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085-41B8-478E-A9B8-4686FC48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D09-527F-4B3B-ABFB-187DE28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B0E-5F63-4648-86AF-5C4AB98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490-45EB-4C38-A49C-2EE0DC12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9ED-991C-43BD-83E6-CB240F8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3B4-D43A-46E5-B0E5-48DD791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FAB-24A0-490C-8A0D-2206F82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0B2A1E-E47E-4888-9C77-12891B523373}" type="slidenum">
              <a:rPr b="0" lang="pt-BR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268FFA-D74D-472C-B81E-0D9CE319BEB9}" type="slidenum">
              <a:rPr b="0" lang="pt-BR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a3d7a"/>
                </a:solidFill>
                <a:latin typeface="Times New Roman"/>
              </a:rPr>
              <a:t>FLUXOGRAMA DE INVESTIGAÇÃO LABORATORIAL DAS HEPATITES VIRAIS NA ATENÇÃO BÁSIC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1200" spc="-1" strike="noStrike">
                <a:solidFill>
                  <a:srgbClr val="2a3d7a"/>
                </a:solidFill>
                <a:latin typeface="Times New Roman"/>
              </a:rPr>
              <a:t>Elaborado por um grupo de profissionais das SMS de Londrina, Cambé, Rolândia e Ibiporã, da 17ª Regional de Saúde e do CISMEPAR, </a:t>
            </a:r>
            <a:br>
              <a:rPr sz="1200"/>
            </a:br>
            <a:r>
              <a:rPr b="1" lang="en-GB" sz="1200" spc="-1" strike="noStrike">
                <a:solidFill>
                  <a:srgbClr val="2a3d7a"/>
                </a:solidFill>
                <a:latin typeface="Times New Roman"/>
              </a:rPr>
              <a:t>conforme o PNHV/MS e o LACEN - PR </a:t>
            </a:r>
            <a:br>
              <a:rPr sz="1200"/>
            </a:br>
            <a:r>
              <a:rPr b="1" lang="en-GB" sz="1200" spc="-1" strike="noStrike">
                <a:solidFill>
                  <a:srgbClr val="2a3d7a"/>
                </a:solidFill>
                <a:latin typeface="Times New Roman"/>
              </a:rPr>
              <a:t>Londrina, abril 2010.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923400"/>
            <a:ext cx="77742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a3d7a"/>
                </a:solidFill>
                <a:latin typeface="Times New Roman"/>
              </a:rPr>
              <a:t>Doadores de Bancos de Sangue, com marcador de Hepatite C reagente:</a:t>
            </a:r>
            <a:r>
              <a:rPr b="0" lang="pt-BR" sz="12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348000" y="1523520"/>
            <a:ext cx="1681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71000"/>
          </a:bodyPr>
          <a:p>
            <a:pPr marL="32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1400" spc="-1" strike="noStrike">
                <a:solidFill>
                  <a:srgbClr val="5b5249"/>
                </a:solidFill>
                <a:latin typeface="Times New Roman"/>
              </a:rPr>
              <a:t>Anti HCV rea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843280" y="1989000"/>
            <a:ext cx="24494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encher a ficha epidemiológica de hepatites virais e encaminhar por malote à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4140360" y="3645000"/>
            <a:ext cx="144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3059280" y="4149720"/>
            <a:ext cx="20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059280" y="4149720"/>
            <a:ext cx="14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Line 8"/>
          <p:cNvSpPr/>
          <p:nvPr/>
        </p:nvSpPr>
        <p:spPr>
          <a:xfrm>
            <a:off x="5076720" y="4149720"/>
            <a:ext cx="18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4140360" y="3933720"/>
            <a:ext cx="17269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2916360" y="3141720"/>
            <a:ext cx="244944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her marcador viral para Hepatite C ( Anti HCV)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4140360" y="2852640"/>
            <a:ext cx="14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5867280" y="3573360"/>
            <a:ext cx="244980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aterial será enviado ao LACEN via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4140360" y="4581360"/>
            <a:ext cx="1944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 HCV não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979640" y="4581360"/>
            <a:ext cx="18018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 HCV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2268360" y="5157720"/>
            <a:ext cx="1513080" cy="55080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Encaminhar ao CISMEPAR para avaliação *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356000" y="5157720"/>
            <a:ext cx="1513080" cy="55080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Encaminhar ao CISMEPAR para avaliação *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3059280" y="486900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Line 18"/>
          <p:cNvSpPr/>
          <p:nvPr/>
        </p:nvSpPr>
        <p:spPr>
          <a:xfrm>
            <a:off x="5076720" y="4869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611280" y="6093000"/>
            <a:ext cx="6913440" cy="4590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O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oadores de sangu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quando encaminhado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o CISMEPA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deverão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var em mã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o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audos dos marcadores virais realizados no banco de sangue e no LACEN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4114800" y="175248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8534520" y="152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560" y="140760"/>
            <a:ext cx="1413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a3d7a"/>
                </a:solidFill>
                <a:latin typeface="Times New Roman"/>
              </a:rPr>
              <a:t>HEPATITE C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203640" y="260280"/>
            <a:ext cx="21589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speito de hepatite C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132000" y="907920"/>
            <a:ext cx="23050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icitar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ti HCV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2843280" y="1413000"/>
            <a:ext cx="2952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4211640" y="620640"/>
            <a:ext cx="14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2843280" y="141300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Line 7"/>
          <p:cNvSpPr/>
          <p:nvPr/>
        </p:nvSpPr>
        <p:spPr>
          <a:xfrm>
            <a:off x="4211640" y="1197000"/>
            <a:ext cx="14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826920" y="7677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Line 9"/>
          <p:cNvSpPr/>
          <p:nvPr/>
        </p:nvSpPr>
        <p:spPr>
          <a:xfrm>
            <a:off x="5796000" y="141300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Line 10"/>
          <p:cNvSpPr/>
          <p:nvPr/>
        </p:nvSpPr>
        <p:spPr>
          <a:xfrm>
            <a:off x="179280" y="1268280"/>
            <a:ext cx="8713800" cy="18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2209680" y="1628640"/>
            <a:ext cx="113832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 HCV (+)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195640" y="220500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1692360" y="2349360"/>
            <a:ext cx="1008000" cy="85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eencher ficha de investigação e encaminhar a V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2916360" y="2349360"/>
            <a:ext cx="1008000" cy="85536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eencher consulta referenciada à MI Hepatite CISMEPA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Line 17"/>
          <p:cNvSpPr/>
          <p:nvPr/>
        </p:nvSpPr>
        <p:spPr>
          <a:xfrm>
            <a:off x="3419640" y="220500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Line 18"/>
          <p:cNvSpPr/>
          <p:nvPr/>
        </p:nvSpPr>
        <p:spPr>
          <a:xfrm>
            <a:off x="2195640" y="2205000"/>
            <a:ext cx="122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Line 19"/>
          <p:cNvSpPr/>
          <p:nvPr/>
        </p:nvSpPr>
        <p:spPr>
          <a:xfrm>
            <a:off x="2843280" y="206064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Text Box 32"/>
          <p:cNvSpPr/>
          <p:nvPr/>
        </p:nvSpPr>
        <p:spPr>
          <a:xfrm>
            <a:off x="5292720" y="1628640"/>
            <a:ext cx="100800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 HCV (-)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003640" y="2133720"/>
            <a:ext cx="1729080" cy="70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e exposição precoce (em pacientes de alta vulnerabilidade), repetir Anti HCV em 60 dia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2" name="Text Box 34"/>
          <p:cNvSpPr/>
          <p:nvPr/>
        </p:nvSpPr>
        <p:spPr>
          <a:xfrm>
            <a:off x="4643280" y="3362400"/>
            <a:ext cx="1008360" cy="70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80808"/>
                </a:solidFill>
                <a:latin typeface="Arial"/>
              </a:rPr>
              <a:t>Anti HCV (+), suspeita de infecção aguda.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Text Box 35"/>
          <p:cNvSpPr/>
          <p:nvPr/>
        </p:nvSpPr>
        <p:spPr>
          <a:xfrm>
            <a:off x="5867280" y="3387600"/>
            <a:ext cx="1008360" cy="2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ti HCV (-)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Text Box 36"/>
          <p:cNvSpPr/>
          <p:nvPr/>
        </p:nvSpPr>
        <p:spPr>
          <a:xfrm>
            <a:off x="5867280" y="4098960"/>
            <a:ext cx="100836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usência de infecçã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Line 39"/>
          <p:cNvSpPr/>
          <p:nvPr/>
        </p:nvSpPr>
        <p:spPr>
          <a:xfrm>
            <a:off x="5791320" y="2819520"/>
            <a:ext cx="6120" cy="10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Line 40"/>
          <p:cNvSpPr/>
          <p:nvPr/>
        </p:nvSpPr>
        <p:spPr>
          <a:xfrm flipH="1">
            <a:off x="5790960" y="1916280"/>
            <a:ext cx="4680" cy="217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5148360" y="2924280"/>
            <a:ext cx="12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5148360" y="292428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6372360" y="2924280"/>
            <a:ext cx="14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6372360" y="3645000"/>
            <a:ext cx="14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Line 52"/>
          <p:cNvSpPr/>
          <p:nvPr/>
        </p:nvSpPr>
        <p:spPr>
          <a:xfrm flipH="1" flipV="1">
            <a:off x="3885840" y="2819520"/>
            <a:ext cx="7621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Text Box 54"/>
          <p:cNvSpPr/>
          <p:nvPr/>
        </p:nvSpPr>
        <p:spPr>
          <a:xfrm>
            <a:off x="8229600" y="15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Rectangle 55"/>
          <p:cNvSpPr/>
          <p:nvPr/>
        </p:nvSpPr>
        <p:spPr>
          <a:xfrm>
            <a:off x="0" y="5648400"/>
            <a:ext cx="9144000" cy="8856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1000" spc="-1" strike="noStrike" u="sng">
                <a:solidFill>
                  <a:srgbClr val="080808"/>
                </a:solidFill>
                <a:uFillTx/>
                <a:latin typeface="Arial"/>
                <a:ea typeface="Times New Roman"/>
              </a:rPr>
              <a:t>Todos os casos com 2 resultados de Anti HCV positivos:</a:t>
            </a:r>
            <a:r>
              <a:rPr b="1" i="1" lang="pt-BR" sz="1000" spc="-1" strike="noStrike">
                <a:solidFill>
                  <a:srgbClr val="080808"/>
                </a:solidFill>
                <a:latin typeface="Arial"/>
                <a:ea typeface="Times New Roman"/>
              </a:rPr>
              <a:t> 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encher a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cha de Notificaçã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específica e encaminhar à Vigilância Epidemiológica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dos os contatos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miciliares e sexuais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de pessoas com </a:t>
            </a:r>
            <a:r>
              <a:rPr b="0" lang="pt-BR" sz="1000" spc="-1" strike="noStrike">
                <a:solidFill>
                  <a:srgbClr val="080808"/>
                </a:solidFill>
                <a:latin typeface="Arial"/>
                <a:ea typeface="Times New Roman"/>
              </a:rPr>
              <a:t>2 resultados de Anti HCV positivos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m ser investigados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os com 2 Anti HCV reagentes  devem ser notificados.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"/>
          <p:cNvGrpSpPr/>
          <p:nvPr/>
        </p:nvGrpSpPr>
        <p:grpSpPr>
          <a:xfrm>
            <a:off x="71280" y="1628640"/>
            <a:ext cx="8891280" cy="2009520"/>
            <a:chOff x="71280" y="1628640"/>
            <a:chExt cx="8891280" cy="2009520"/>
          </a:xfrm>
        </p:grpSpPr>
        <p:sp>
          <p:nvSpPr>
            <p:cNvPr id="515" name="Rectangle 2"/>
            <p:cNvSpPr/>
            <p:nvPr/>
          </p:nvSpPr>
          <p:spPr>
            <a:xfrm>
              <a:off x="4228920" y="2922120"/>
              <a:ext cx="47322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lher 2ª amostra: apresentando resultado 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agente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preencher a ficha epidemiológica e encaminhar à MI Hepatite 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ISMEPAR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avés da consulta referenciada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6" name="Rectangle 3"/>
            <p:cNvSpPr/>
            <p:nvPr/>
          </p:nvSpPr>
          <p:spPr>
            <a:xfrm>
              <a:off x="1218600" y="2922120"/>
              <a:ext cx="3009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to com vírus: infecção prévia </a:t>
              </a:r>
              <a:r>
                <a:rPr b="0" lang="pt-B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u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epatite C crônica </a:t>
              </a:r>
              <a:r>
                <a:rPr b="0" lang="pt-B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ou </a:t>
              </a: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sultado falso (+), que pode ocorrer devido a gravidez, lúpus, hipertiroidismo, etc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71280" y="2922120"/>
              <a:ext cx="1147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o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4228920" y="1936080"/>
              <a:ext cx="473220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just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ientações de prevenção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1218600" y="1936080"/>
              <a:ext cx="300996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sceptíve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71280" y="1936080"/>
              <a:ext cx="11473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o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4228920" y="1628640"/>
              <a:ext cx="4732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Arial"/>
                  <a:ea typeface="Times New Roman"/>
                </a:rPr>
                <a:t>Procedimento do Profission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1218600" y="1628640"/>
              <a:ext cx="3009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Arial"/>
                  <a:ea typeface="Times New Roman"/>
                </a:rPr>
                <a:t>Interpretação dos Resultado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3" name="Rectangle 10"/>
            <p:cNvSpPr/>
            <p:nvPr/>
          </p:nvSpPr>
          <p:spPr>
            <a:xfrm>
              <a:off x="71280" y="1628640"/>
              <a:ext cx="11473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Arial"/>
                  <a:ea typeface="Times New Roman"/>
                </a:rPr>
                <a:t>Anti-HCV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71280" y="1628640"/>
              <a:ext cx="889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5" name="Line 12"/>
            <p:cNvSpPr/>
            <p:nvPr/>
          </p:nvSpPr>
          <p:spPr>
            <a:xfrm>
              <a:off x="71280" y="3636720"/>
              <a:ext cx="8890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>
              <a:off x="71280" y="1628640"/>
              <a:ext cx="1440" cy="20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8961480" y="1628640"/>
              <a:ext cx="1080" cy="20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>
              <a:off x="71280" y="1936080"/>
              <a:ext cx="889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>
              <a:off x="1218600" y="1628640"/>
              <a:ext cx="1080" cy="20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>
              <a:off x="4228920" y="1628640"/>
              <a:ext cx="1080" cy="20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71280" y="2922120"/>
              <a:ext cx="889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32" name="Rectangle 19"/>
          <p:cNvSpPr/>
          <p:nvPr/>
        </p:nvSpPr>
        <p:spPr>
          <a:xfrm>
            <a:off x="8280" y="73440"/>
            <a:ext cx="458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2a3d7a"/>
                </a:solidFill>
                <a:latin typeface="Arial"/>
              </a:rPr>
              <a:t>MARCADORES SOROLÓGICOS PARA HEPATITE C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Text Box 21"/>
          <p:cNvSpPr/>
          <p:nvPr/>
        </p:nvSpPr>
        <p:spPr>
          <a:xfrm>
            <a:off x="8305920" y="152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5222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Pacientes sintomáticos com suspeita de Hepatite Aguda: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808200" y="12445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4960" y="1066680"/>
            <a:ext cx="24242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ciente com sinais e sintoma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314880" y="1066680"/>
            <a:ext cx="30855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eta de TGP (ALT) / TGO (AST) na UB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16440" y="1628640"/>
            <a:ext cx="9122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09520" y="2133720"/>
            <a:ext cx="346248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GP (ALT) / TGO (AST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vadas em 3 vezes ou mais que o valor normal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21320" y="2205000"/>
            <a:ext cx="2396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ames com resultados norma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188000" y="2997360"/>
            <a:ext cx="293148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icitar marcadores virais para Hepati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( Anti HAV IgM) e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(HBS Ag 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 HBc IgM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266120" y="4149720"/>
            <a:ext cx="28036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forme o resultado seguir fluxo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ecífico para Hepatite A ou B agud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420800" y="2924280"/>
            <a:ext cx="26740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vestigar outra hipótese diagnóst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500720" y="134136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3849480" y="1916280"/>
            <a:ext cx="507960" cy="217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500720" y="1916280"/>
            <a:ext cx="64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2819520" y="2819520"/>
            <a:ext cx="2520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771640" y="3716280"/>
            <a:ext cx="180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651640" y="249228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0" y="5805360"/>
            <a:ext cx="745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24000" y="5661000"/>
            <a:ext cx="8316720" cy="276480"/>
          </a:xfrm>
          <a:prstGeom prst="rect">
            <a:avLst/>
          </a:prstGeom>
          <a:solidFill>
            <a:srgbClr val="fac16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Sinais e sintoma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febre, mal estar, náuseas, vômitos, mialgia, colúria, hipocolia fecal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resença ou nã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icteríci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8458200" y="152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2971800" y="121932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286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HEPATITE A AGUDA: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276720" y="907920"/>
            <a:ext cx="21589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speito de hepatite 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132000" y="1628640"/>
            <a:ext cx="23050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etar marcador viral para Hepatite A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ti – HAV IgM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03280" y="2781360"/>
            <a:ext cx="18003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 – HAV IgM (+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788000" y="2852640"/>
            <a:ext cx="23050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 – HAV IgM (-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87280" y="3429000"/>
            <a:ext cx="23050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epatite A Agud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45080" y="3459240"/>
            <a:ext cx="273528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CEN fará os marcadores virais para Hepatite B (HBsAg e Anti-HBc IgM) da mesma amostr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2411280" y="2492280"/>
            <a:ext cx="3673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211640" y="1197000"/>
            <a:ext cx="14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2411280" y="2492280"/>
            <a:ext cx="180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2411280" y="3068640"/>
            <a:ext cx="180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6084720" y="2492280"/>
            <a:ext cx="180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6084720" y="314172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211640" y="2133720"/>
            <a:ext cx="144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68360" y="602136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35" name="Group 16"/>
          <p:cNvGrpSpPr/>
          <p:nvPr/>
        </p:nvGrpSpPr>
        <p:grpSpPr>
          <a:xfrm>
            <a:off x="228600" y="5486400"/>
            <a:ext cx="4114440" cy="1218960"/>
            <a:chOff x="228600" y="5486400"/>
            <a:chExt cx="4114440" cy="1218960"/>
          </a:xfrm>
        </p:grpSpPr>
        <p:sp>
          <p:nvSpPr>
            <p:cNvPr id="136" name="Rectangle 17"/>
            <p:cNvSpPr/>
            <p:nvPr/>
          </p:nvSpPr>
          <p:spPr>
            <a:xfrm>
              <a:off x="2314440" y="6460560"/>
              <a:ext cx="20275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usência de contato, susceptível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>
              <a:off x="1251720" y="6460560"/>
              <a:ext cx="10627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228600" y="6460560"/>
              <a:ext cx="10231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2314440" y="6216840"/>
              <a:ext cx="2027520" cy="24372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ecção passada pelo vírus A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0" name="Rectangle 21"/>
            <p:cNvSpPr/>
            <p:nvPr/>
          </p:nvSpPr>
          <p:spPr>
            <a:xfrm>
              <a:off x="1251720" y="6216840"/>
              <a:ext cx="1062720" cy="24372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228600" y="6216840"/>
              <a:ext cx="1023120" cy="24372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2314440" y="5973480"/>
              <a:ext cx="20275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ecção recente pelo vírus A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3" name="Rectangle 24"/>
            <p:cNvSpPr/>
            <p:nvPr/>
          </p:nvSpPr>
          <p:spPr>
            <a:xfrm>
              <a:off x="1251720" y="5973480"/>
              <a:ext cx="10627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4" name="Rectangle 25"/>
            <p:cNvSpPr/>
            <p:nvPr/>
          </p:nvSpPr>
          <p:spPr>
            <a:xfrm>
              <a:off x="228600" y="5973480"/>
              <a:ext cx="1023120" cy="243360"/>
            </a:xfrm>
            <a:prstGeom prst="rect">
              <a:avLst/>
            </a:prstGeom>
            <a:solidFill>
              <a:srgbClr val="93d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Rectangle 26"/>
            <p:cNvSpPr/>
            <p:nvPr/>
          </p:nvSpPr>
          <p:spPr>
            <a:xfrm>
              <a:off x="2314440" y="5730120"/>
              <a:ext cx="2027520" cy="243360"/>
            </a:xfrm>
            <a:prstGeom prst="rect">
              <a:avLst/>
            </a:prstGeom>
            <a:solidFill>
              <a:srgbClr val="46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pretação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251720" y="5730120"/>
              <a:ext cx="1062720" cy="243360"/>
            </a:xfrm>
            <a:prstGeom prst="rect">
              <a:avLst/>
            </a:prstGeom>
            <a:solidFill>
              <a:srgbClr val="46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ti – HAV Total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28600" y="5730120"/>
              <a:ext cx="1023120" cy="243360"/>
            </a:xfrm>
            <a:prstGeom prst="rect">
              <a:avLst/>
            </a:prstGeom>
            <a:solidFill>
              <a:srgbClr val="46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ti HAV- IgM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228600" y="5486400"/>
              <a:ext cx="4113360" cy="243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674800"/>
                  <a:tab algn="r" pos="5349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1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pretação dos resultados sorológicos</a:t>
              </a:r>
              <a:r>
                <a:rPr b="1" lang="pt-B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>
              <a:off x="228600" y="5486400"/>
              <a:ext cx="41133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228600" y="6703920"/>
              <a:ext cx="4113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>
              <a:off x="228600" y="5486400"/>
              <a:ext cx="1440" cy="12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4341960" y="5486400"/>
              <a:ext cx="1080" cy="12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>
              <a:off x="228600" y="5730120"/>
              <a:ext cx="4113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>
              <a:off x="228600" y="5973480"/>
              <a:ext cx="4113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5" name="Line 36"/>
            <p:cNvSpPr/>
            <p:nvPr/>
          </p:nvSpPr>
          <p:spPr>
            <a:xfrm>
              <a:off x="1251720" y="5730120"/>
              <a:ext cx="1440" cy="9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2314440" y="5730120"/>
              <a:ext cx="1440" cy="9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Line 38"/>
            <p:cNvSpPr/>
            <p:nvPr/>
          </p:nvSpPr>
          <p:spPr>
            <a:xfrm>
              <a:off x="228600" y="6216840"/>
              <a:ext cx="411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>
              <a:off x="228600" y="6460560"/>
              <a:ext cx="4113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9" name="Text Box 40"/>
          <p:cNvSpPr/>
          <p:nvPr/>
        </p:nvSpPr>
        <p:spPr>
          <a:xfrm>
            <a:off x="6012000" y="981000"/>
            <a:ext cx="230508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encher a </a:t>
            </a:r>
            <a:r>
              <a:rPr b="0" i="1" lang="pt-BR" sz="1200" spc="-1" strike="noStrike" u="sng">
                <a:solidFill>
                  <a:srgbClr val="000000"/>
                </a:solidFill>
                <a:uFillTx/>
                <a:latin typeface="Arial"/>
              </a:rPr>
              <a:t>ficha epidemiológica de hepatite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virais e encaminhar por malote à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Line 41"/>
          <p:cNvSpPr/>
          <p:nvPr/>
        </p:nvSpPr>
        <p:spPr>
          <a:xfrm>
            <a:off x="4211640" y="1413000"/>
            <a:ext cx="1728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2411280" y="3716280"/>
            <a:ext cx="180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762120" y="4076640"/>
            <a:ext cx="320040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ompanhar o paciente na própria UBS até a normalização das transaminases e remissão dos sintoma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5508720" y="5013360"/>
            <a:ext cx="237492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forme o resultado, seguir fluxo para Hepatite B ou C (considerando 60 dias de janela imunológica para o Anti HCV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Line 45"/>
          <p:cNvSpPr/>
          <p:nvPr/>
        </p:nvSpPr>
        <p:spPr>
          <a:xfrm>
            <a:off x="4211640" y="2276640"/>
            <a:ext cx="20890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6372360" y="1989000"/>
            <a:ext cx="244944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aterial será enviado ao LACEN, junto da ficha “SFIHA”, via Vigilância Epidemiológic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Line 47"/>
          <p:cNvSpPr/>
          <p:nvPr/>
        </p:nvSpPr>
        <p:spPr>
          <a:xfrm>
            <a:off x="6095880" y="4114800"/>
            <a:ext cx="1800" cy="93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Text Box 51"/>
          <p:cNvSpPr/>
          <p:nvPr/>
        </p:nvSpPr>
        <p:spPr>
          <a:xfrm>
            <a:off x="8534520" y="152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52"/>
          <p:cNvSpPr/>
          <p:nvPr/>
        </p:nvSpPr>
        <p:spPr>
          <a:xfrm>
            <a:off x="609480" y="47242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4648320" y="6019920"/>
            <a:ext cx="3886200" cy="71388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900" spc="-1" strike="noStrike">
                <a:solidFill>
                  <a:srgbClr val="5b5249"/>
                </a:solidFill>
                <a:latin typeface="Times New Roman"/>
              </a:rPr>
              <a:t>* </a:t>
            </a:r>
            <a:r>
              <a:rPr b="0" lang="pt-BR" sz="900" spc="-1" strike="noStrike">
                <a:solidFill>
                  <a:srgbClr val="5b5249"/>
                </a:solidFill>
                <a:latin typeface="Times New Roman"/>
              </a:rPr>
              <a:t>Período de afastamento: </a:t>
            </a:r>
            <a:r>
              <a:rPr b="1" i="1" lang="pt-BR" sz="900" spc="-1" strike="noStrike" u="sng">
                <a:solidFill>
                  <a:srgbClr val="5b5249"/>
                </a:solidFill>
                <a:uFillTx/>
                <a:latin typeface="Times New Roman"/>
              </a:rPr>
              <a:t>atestado médico, considerando a data do início dos sintomas</a:t>
            </a:r>
            <a:r>
              <a:rPr b="1" i="1" lang="pt-BR" sz="9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900" spc="-1" strike="noStrike">
                <a:solidFill>
                  <a:srgbClr val="5b5249"/>
                </a:solidFill>
                <a:latin typeface="Times New Roman"/>
              </a:rPr>
              <a:t>*</a:t>
            </a:r>
            <a:r>
              <a:rPr b="0" lang="pt-BR" sz="900" spc="-1" strike="noStrike">
                <a:solidFill>
                  <a:srgbClr val="5b5249"/>
                </a:solidFill>
                <a:latin typeface="Times New Roman"/>
              </a:rPr>
              <a:t> Atenção para as </a:t>
            </a:r>
            <a:r>
              <a:rPr b="1" i="1" lang="pt-BR" sz="900" spc="-1" strike="noStrike" u="sng">
                <a:solidFill>
                  <a:srgbClr val="5b5249"/>
                </a:solidFill>
                <a:uFillTx/>
                <a:latin typeface="Times New Roman"/>
              </a:rPr>
              <a:t>medidas de controle</a:t>
            </a:r>
            <a:r>
              <a:rPr b="0" lang="pt-BR" sz="900" spc="-1" strike="noStrike">
                <a:solidFill>
                  <a:srgbClr val="5b5249"/>
                </a:solidFill>
                <a:latin typeface="Times New Roman"/>
              </a:rPr>
              <a:t> ambiental, para a </a:t>
            </a:r>
            <a:r>
              <a:rPr b="1" i="1" lang="pt-BR" sz="900" spc="-1" strike="noStrike" u="sng">
                <a:solidFill>
                  <a:srgbClr val="5b5249"/>
                </a:solidFill>
                <a:uFillTx/>
                <a:latin typeface="Times New Roman"/>
              </a:rPr>
              <a:t>investigação dos contatos (domiciliares e “institucionais”) e notificação de surtos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HEPATITE B AGUDA: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08200" y="12445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358440" y="838080"/>
            <a:ext cx="23187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uspeito de hepatite B agud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8120" y="1447920"/>
            <a:ext cx="28735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letar marcadores virais (HBs Ag 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-HBc IgM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965760" y="2286000"/>
            <a:ext cx="9122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28600" y="3429000"/>
            <a:ext cx="19051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Bs Ag: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-HBc IgM: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362320" y="3429000"/>
            <a:ext cx="1447560" cy="100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Bs Ag: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-HBc IgM: não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 HBc: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4114800"/>
            <a:ext cx="190512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Hepatite B aguda (acompanhamento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línico pela UBS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362320" y="4876920"/>
            <a:ext cx="1447560" cy="100656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caminhar ao Cismepar para avaliação (portador de Hepatite 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553080" y="4724280"/>
            <a:ext cx="1981440" cy="42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Susceptível ao VHB: Vacinar contra Hepatit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5805360"/>
            <a:ext cx="745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6553080" y="3429000"/>
            <a:ext cx="1979640" cy="115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HBs Ag: não reage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ti HBc IgM: não reage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(Lacen investiga Anti HAV IgM. Se negativo, investiga leptospirose. Se negativo, coletar Anti HCV após 2 mêses e seguir o fluxo de Hepatite C)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533520" y="6095880"/>
            <a:ext cx="8381880" cy="550800"/>
          </a:xfrm>
          <a:prstGeom prst="rect">
            <a:avLst/>
          </a:prstGeom>
          <a:solidFill>
            <a:srgbClr val="fac164"/>
          </a:solidFill>
          <a:ln w="9360">
            <a:solidFill>
              <a:srgbClr val="fac1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</a:rPr>
              <a:t>Acompanhamento clínico na unidade de saúde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, a cada 15 dias no primeiro mês e uma vez/ mês até o encerramento do caso, independente da chegada do resultado de exames.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</a:rPr>
              <a:t>Deverão ser solicitados a cada consulta médica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aminotransferases, bilirrubinas, albumina, tempo de protrombina, hemograma e plaquetas,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té a normalização dos exames.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83" name="AutoShape 34"/>
          <p:cNvCxnSpPr/>
          <p:nvPr/>
        </p:nvCxnSpPr>
        <p:spPr>
          <a:xfrm flipH="1" flipV="1" rot="5400000">
            <a:off x="4248000" y="171000"/>
            <a:ext cx="153000" cy="6363360"/>
          </a:xfrm>
          <a:prstGeom prst="bentConnector3">
            <a:avLst>
              <a:gd name="adj1" fmla="val 250000"/>
            </a:avLst>
          </a:prstGeom>
          <a:ln w="9360">
            <a:solidFill>
              <a:srgbClr val="5b5249"/>
            </a:solidFill>
            <a:miter/>
          </a:ln>
        </p:spPr>
      </p:cxnSp>
      <p:sp>
        <p:nvSpPr>
          <p:cNvPr id="184" name="Line 37"/>
          <p:cNvSpPr/>
          <p:nvPr/>
        </p:nvSpPr>
        <p:spPr>
          <a:xfrm>
            <a:off x="4419720" y="114300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Line 38"/>
          <p:cNvSpPr/>
          <p:nvPr/>
        </p:nvSpPr>
        <p:spPr>
          <a:xfrm>
            <a:off x="4419720" y="19051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4419720" y="25909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1143000" y="388620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Line 41"/>
          <p:cNvSpPr/>
          <p:nvPr/>
        </p:nvSpPr>
        <p:spPr>
          <a:xfrm>
            <a:off x="3048120" y="449568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543800" y="44956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6553080" y="5486400"/>
            <a:ext cx="1981440" cy="39852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escartar HB e Investigar outra hipótese diagnóstic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7543800" y="51814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 Box 50"/>
          <p:cNvSpPr/>
          <p:nvPr/>
        </p:nvSpPr>
        <p:spPr>
          <a:xfrm>
            <a:off x="8458200" y="15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Line 62"/>
          <p:cNvSpPr/>
          <p:nvPr/>
        </p:nvSpPr>
        <p:spPr>
          <a:xfrm>
            <a:off x="3276720" y="304812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Line 66"/>
          <p:cNvSpPr/>
          <p:nvPr/>
        </p:nvSpPr>
        <p:spPr>
          <a:xfrm>
            <a:off x="5181480" y="3048120"/>
            <a:ext cx="0" cy="3045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Rectangle 70"/>
          <p:cNvSpPr/>
          <p:nvPr/>
        </p:nvSpPr>
        <p:spPr>
          <a:xfrm>
            <a:off x="4419720" y="342900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HBs Ag (+)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Anti-HBc IgM: (-)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Anti HBc (-)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Lacen repete o HBs Ag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na mesma amostra. Se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(-), solicita nova 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900" spc="-1" strike="noStrike">
                <a:solidFill>
                  <a:srgbClr val="080808"/>
                </a:solidFill>
                <a:latin typeface="Arial"/>
              </a:rPr>
              <a:t>amostra HBsAg em 30 dia</a:t>
            </a:r>
            <a:r>
              <a:rPr b="1" lang="pt-BR" sz="900" spc="-1" strike="noStrike">
                <a:solidFill>
                  <a:srgbClr val="2a3d7a"/>
                </a:solidFill>
                <a:latin typeface="Arial"/>
              </a:rPr>
              <a:t>s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Line 74"/>
          <p:cNvSpPr/>
          <p:nvPr/>
        </p:nvSpPr>
        <p:spPr>
          <a:xfrm>
            <a:off x="5181480" y="472428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87"/>
          <p:cNvSpPr/>
          <p:nvPr/>
        </p:nvSpPr>
        <p:spPr>
          <a:xfrm>
            <a:off x="1143000" y="4800600"/>
            <a:ext cx="0" cy="2286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Text Box 89"/>
          <p:cNvSpPr/>
          <p:nvPr/>
        </p:nvSpPr>
        <p:spPr>
          <a:xfrm>
            <a:off x="228600" y="5029200"/>
            <a:ext cx="1905120" cy="85536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oletar HBs Ag após 6 mêse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ão Reagente = cura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agente = Encaminhar ao Cismepar para avaliação (portador de Hepatite B)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Rectangle 90"/>
          <p:cNvSpPr/>
          <p:nvPr/>
        </p:nvSpPr>
        <p:spPr>
          <a:xfrm>
            <a:off x="4419720" y="4952880"/>
            <a:ext cx="1600200" cy="1067040"/>
          </a:xfrm>
          <a:prstGeom prst="rect">
            <a:avLst/>
          </a:prstGeom>
          <a:solidFill>
            <a:srgbClr val="c3e68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80808"/>
                </a:solidFill>
                <a:latin typeface="Arial"/>
              </a:rPr>
              <a:t>HBsAg (-): alta 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000" spc="-1" strike="noStrike">
                <a:solidFill>
                  <a:srgbClr val="080808"/>
                </a:solidFill>
                <a:latin typeface="Arial"/>
              </a:rPr>
              <a:t>HBs Ag (+): Encaminhar ao Cismepar para avaliação (portador de Hepatite B)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Line 92"/>
          <p:cNvSpPr/>
          <p:nvPr/>
        </p:nvSpPr>
        <p:spPr>
          <a:xfrm>
            <a:off x="7467480" y="3105000"/>
            <a:ext cx="0" cy="3240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PCTE COM </a:t>
            </a:r>
            <a:r>
              <a:rPr b="1" i="1" lang="pt-BR" sz="1600" spc="-1" strike="noStrike" u="sng">
                <a:solidFill>
                  <a:srgbClr val="2a3d7a"/>
                </a:solidFill>
                <a:uFillTx/>
                <a:latin typeface="Times New Roman"/>
              </a:rPr>
              <a:t>HEPATITE</a:t>
            </a: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i="1" lang="pt-BR" sz="1600" spc="-1" strike="noStrike" u="sng">
                <a:solidFill>
                  <a:srgbClr val="2a3d7a"/>
                </a:solidFill>
                <a:uFillTx/>
                <a:latin typeface="Times New Roman"/>
              </a:rPr>
              <a:t>B</a:t>
            </a: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i="1" lang="pt-BR" sz="1600" spc="-1" strike="noStrike" u="sng">
                <a:solidFill>
                  <a:srgbClr val="2a3d7a"/>
                </a:solidFill>
                <a:uFillTx/>
                <a:latin typeface="Times New Roman"/>
              </a:rPr>
              <a:t>CRÔNICA</a:t>
            </a: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  (PROVENIENTE DE CTA, ETC) :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132000" y="907920"/>
            <a:ext cx="23050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-HBc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95280" y="1700280"/>
            <a:ext cx="898560" cy="4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HBsAg  +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-HBc -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700360" y="2637000"/>
            <a:ext cx="14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ti – HBc Ig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9280" y="2708280"/>
            <a:ext cx="1297080" cy="59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HBsAg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also positivo ou fase inicial da infecção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826920" y="1413000"/>
            <a:ext cx="784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826920" y="1413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762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3348000" y="1413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156360" y="141300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211640" y="1197000"/>
            <a:ext cx="144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826920" y="7677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79280" y="3573360"/>
            <a:ext cx="165600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Repetir em 30 dias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900000" y="3357720"/>
            <a:ext cx="180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108000" y="4292640"/>
            <a:ext cx="934920" cy="51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HBs Ag –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nti HBc -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14200" y="5157720"/>
            <a:ext cx="1714680" cy="91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so positivo confirmado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sceptível: vacinar contra a H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900000" y="3860640"/>
            <a:ext cx="1800" cy="2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324000" y="4076640"/>
            <a:ext cx="1223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324000" y="4076640"/>
            <a:ext cx="144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1547640" y="407664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324000" y="479736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1258920" y="4292640"/>
            <a:ext cx="934920" cy="51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HBs Ag +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nti HBc +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2987640" y="1700280"/>
            <a:ext cx="974880" cy="4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HBsAg  +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-HBc +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5689440" y="1700280"/>
            <a:ext cx="898560" cy="4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HBsAg -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-HBc+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8137440" y="1700280"/>
            <a:ext cx="898560" cy="72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HBsAg  -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Anti-HBc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8675640" y="141300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335268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2340000" y="3284640"/>
            <a:ext cx="107964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Não reagente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3564000" y="3284640"/>
            <a:ext cx="93492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reagente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3348000" y="2924280"/>
            <a:ext cx="1800" cy="21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Line 32"/>
          <p:cNvSpPr/>
          <p:nvPr/>
        </p:nvSpPr>
        <p:spPr>
          <a:xfrm>
            <a:off x="2771640" y="3141720"/>
            <a:ext cx="12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Line 33"/>
          <p:cNvSpPr/>
          <p:nvPr/>
        </p:nvSpPr>
        <p:spPr>
          <a:xfrm>
            <a:off x="2771640" y="314172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3995640" y="314172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35"/>
          <p:cNvSpPr/>
          <p:nvPr/>
        </p:nvSpPr>
        <p:spPr>
          <a:xfrm>
            <a:off x="2195640" y="3789360"/>
            <a:ext cx="122400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Infecção crônica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268360" y="4221000"/>
            <a:ext cx="1151280" cy="85536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reencher consulta referenciada para </a:t>
            </a: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MI Hepatite =&gt;CISMEPAR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2771640" y="357336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Line 38"/>
          <p:cNvSpPr/>
          <p:nvPr/>
        </p:nvSpPr>
        <p:spPr>
          <a:xfrm>
            <a:off x="2771640" y="407664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Line 39"/>
          <p:cNvSpPr/>
          <p:nvPr/>
        </p:nvSpPr>
        <p:spPr>
          <a:xfrm>
            <a:off x="3995640" y="357336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Line 41"/>
          <p:cNvSpPr/>
          <p:nvPr/>
        </p:nvSpPr>
        <p:spPr>
          <a:xfrm>
            <a:off x="3995640" y="4076640"/>
            <a:ext cx="1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3492360" y="3789360"/>
            <a:ext cx="122400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Infecção aguda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Text Box 43"/>
          <p:cNvSpPr/>
          <p:nvPr/>
        </p:nvSpPr>
        <p:spPr>
          <a:xfrm>
            <a:off x="3505320" y="5334120"/>
            <a:ext cx="1218960" cy="59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companhamento clínico na UBS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Text Box 44"/>
          <p:cNvSpPr/>
          <p:nvPr/>
        </p:nvSpPr>
        <p:spPr>
          <a:xfrm>
            <a:off x="0" y="6308640"/>
            <a:ext cx="9144000" cy="5508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Times New Roman"/>
              </a:rPr>
              <a:t>*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</a:rPr>
              <a:t>Acompanhamento clínico na unidade de saúde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, a cada 15 dias no primeiro mês e uma vez/ mês até o encerramento do caso, independente da chegada do resultado de exames. Deverão ser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</a:rPr>
              <a:t>solicitados a cada consulta médica</a:t>
            </a:r>
            <a:r>
              <a:rPr b="0" i="1" lang="pt-BR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aminotransferases, bilirrubinas e albumina, tempo de protrombina, hemograma e plaquetas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3492360" y="4221000"/>
            <a:ext cx="1224000" cy="93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reencher ficha de investigação e encaminhar para Vigilância Epidemiológica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5435640" y="2438280"/>
            <a:ext cx="1440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olicitar  Anti HBc IgM e Anti HBs 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7772400" y="2637000"/>
            <a:ext cx="1300320" cy="7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eptível: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acinar contra HB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Text Box 50"/>
          <p:cNvSpPr/>
          <p:nvPr/>
        </p:nvSpPr>
        <p:spPr>
          <a:xfrm>
            <a:off x="5029200" y="3141720"/>
            <a:ext cx="119844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Não reagentes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Text Box 51"/>
          <p:cNvSpPr/>
          <p:nvPr/>
        </p:nvSpPr>
        <p:spPr>
          <a:xfrm>
            <a:off x="7086600" y="3809880"/>
            <a:ext cx="1219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ontato prévio = imunidade = alta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4859280" y="3789360"/>
            <a:ext cx="1440000" cy="7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nti-HBc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falso (+)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Infecção no passad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Cepa muta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629400" y="4419720"/>
            <a:ext cx="1905120" cy="26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nti HBs (-)    e    Anti HBc IgM (+)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Text Box 56"/>
          <p:cNvSpPr/>
          <p:nvPr/>
        </p:nvSpPr>
        <p:spPr>
          <a:xfrm>
            <a:off x="4859280" y="4876920"/>
            <a:ext cx="1441440" cy="50544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Preencher consulta referenciada para </a:t>
            </a:r>
            <a:r>
              <a:rPr b="0" i="1" lang="pt-BR" sz="900" spc="-1" strike="noStrike">
                <a:solidFill>
                  <a:srgbClr val="000000"/>
                </a:solidFill>
                <a:latin typeface="Arial"/>
              </a:rPr>
              <a:t>MI Hepatite =&gt;CISMEPA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57"/>
          <p:cNvSpPr/>
          <p:nvPr/>
        </p:nvSpPr>
        <p:spPr>
          <a:xfrm>
            <a:off x="6629400" y="5029200"/>
            <a:ext cx="220968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Infecção aguda ou uma janela imunológica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58"/>
          <p:cNvSpPr/>
          <p:nvPr/>
        </p:nvSpPr>
        <p:spPr>
          <a:xfrm>
            <a:off x="6629400" y="5410080"/>
            <a:ext cx="220968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companhamento clínico na UBS*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Line 59"/>
          <p:cNvSpPr/>
          <p:nvPr/>
        </p:nvSpPr>
        <p:spPr>
          <a:xfrm>
            <a:off x="6095880" y="2209680"/>
            <a:ext cx="1800" cy="22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Line 60"/>
          <p:cNvSpPr/>
          <p:nvPr/>
        </p:nvSpPr>
        <p:spPr>
          <a:xfrm>
            <a:off x="8675640" y="2421000"/>
            <a:ext cx="180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Line 61"/>
          <p:cNvSpPr/>
          <p:nvPr/>
        </p:nvSpPr>
        <p:spPr>
          <a:xfrm>
            <a:off x="6019920" y="2895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Line 62"/>
          <p:cNvSpPr/>
          <p:nvPr/>
        </p:nvSpPr>
        <p:spPr>
          <a:xfrm>
            <a:off x="5651640" y="2997360"/>
            <a:ext cx="129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Line 63"/>
          <p:cNvSpPr/>
          <p:nvPr/>
        </p:nvSpPr>
        <p:spPr>
          <a:xfrm>
            <a:off x="5651640" y="299736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Line 64"/>
          <p:cNvSpPr/>
          <p:nvPr/>
        </p:nvSpPr>
        <p:spPr>
          <a:xfrm>
            <a:off x="6948360" y="2997360"/>
            <a:ext cx="1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62720" y="342900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>
            <a:off x="5562720" y="4495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Line 74"/>
          <p:cNvSpPr/>
          <p:nvPr/>
        </p:nvSpPr>
        <p:spPr>
          <a:xfrm>
            <a:off x="7238880" y="4724280"/>
            <a:ext cx="180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Line 76"/>
          <p:cNvSpPr/>
          <p:nvPr/>
        </p:nvSpPr>
        <p:spPr>
          <a:xfrm>
            <a:off x="723888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Text Box 77"/>
          <p:cNvSpPr/>
          <p:nvPr/>
        </p:nvSpPr>
        <p:spPr>
          <a:xfrm>
            <a:off x="6629400" y="5867280"/>
            <a:ext cx="2209680" cy="36828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Repetir Anti HBs em 60 dias. Se negativo </a:t>
            </a:r>
            <a:r>
              <a:rPr b="0" i="1" lang="pt-BR" sz="900" spc="-1" strike="noStrike">
                <a:solidFill>
                  <a:srgbClr val="000000"/>
                </a:solidFill>
                <a:latin typeface="Arial"/>
              </a:rPr>
              <a:t>=&gt;CISMEPAR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Line 80"/>
          <p:cNvSpPr/>
          <p:nvPr/>
        </p:nvSpPr>
        <p:spPr>
          <a:xfrm>
            <a:off x="4038480" y="5181480"/>
            <a:ext cx="0" cy="1526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Line 81"/>
          <p:cNvSpPr/>
          <p:nvPr/>
        </p:nvSpPr>
        <p:spPr>
          <a:xfrm flipV="1">
            <a:off x="1676520" y="2742840"/>
            <a:ext cx="990360" cy="1523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Line 82"/>
          <p:cNvSpPr/>
          <p:nvPr/>
        </p:nvSpPr>
        <p:spPr>
          <a:xfrm>
            <a:off x="73915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Text Box 83"/>
          <p:cNvSpPr/>
          <p:nvPr/>
        </p:nvSpPr>
        <p:spPr>
          <a:xfrm>
            <a:off x="6669000" y="3124080"/>
            <a:ext cx="1008000" cy="43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nti HBs (+) e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nti HBc IgM (-)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Line 84"/>
          <p:cNvSpPr/>
          <p:nvPr/>
        </p:nvSpPr>
        <p:spPr>
          <a:xfrm>
            <a:off x="6400800" y="2971800"/>
            <a:ext cx="30492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Line 85"/>
          <p:cNvSpPr/>
          <p:nvPr/>
        </p:nvSpPr>
        <p:spPr>
          <a:xfrm>
            <a:off x="7238880" y="5257800"/>
            <a:ext cx="18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87"/>
          <p:cNvSpPr/>
          <p:nvPr/>
        </p:nvSpPr>
        <p:spPr>
          <a:xfrm>
            <a:off x="8458200" y="6248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Text Box 88"/>
          <p:cNvSpPr/>
          <p:nvPr/>
        </p:nvSpPr>
        <p:spPr>
          <a:xfrm>
            <a:off x="8686800" y="152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3d7a"/>
                </a:solidFill>
                <a:latin typeface="Times New Roman"/>
              </a:rPr>
              <a:t>Pacientes assintomáticos *, com suspeita de hepatite</a:t>
            </a:r>
            <a:endParaRPr b="0" lang="en-US" sz="1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79280" y="5522040"/>
            <a:ext cx="6624720" cy="1006560"/>
          </a:xfrm>
          <a:prstGeom prst="rect">
            <a:avLst/>
          </a:prstGeom>
          <a:solidFill>
            <a:srgbClr val="c9dd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 que teve contato com alguém com hepatite B ou C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 ter recebido transfusão de sangue ou hemoderivados antes de 1993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 uso de drogas com compartilhamento: drogas injetáveis, inaláveis ou crac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 prática sexual sem preservativ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 história de hepatite ou icterícia aguda no passad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57200" y="1371600"/>
            <a:ext cx="2286000" cy="641520"/>
          </a:xfrm>
          <a:prstGeom prst="rect">
            <a:avLst/>
          </a:prstGeom>
          <a:solidFill>
            <a:srgbClr val="c9dd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ura espontânea de pessoas que apresentaram alto grau de vulnerabilid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200400" y="1600200"/>
            <a:ext cx="2664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onselhamento pré- tes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276720" y="2276640"/>
            <a:ext cx="2663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aliação dos riscos/vulnerabilid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276720" y="2781360"/>
            <a:ext cx="266364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icitar marcadores virais para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epatit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HBs Ag e Anti HBc) e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( Anti HCV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276720" y="3645000"/>
            <a:ext cx="266364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ga do resultado no aconselhamento pós tes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03640" y="4581360"/>
            <a:ext cx="26636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iderando a tabela de interpretação dos marcadores sorológicos, seguir o fluxo respectiv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500720" y="191628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4500720" y="2565360"/>
            <a:ext cx="14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4500720" y="3357720"/>
            <a:ext cx="144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4500720" y="4149720"/>
            <a:ext cx="144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2743200" y="1752480"/>
            <a:ext cx="4572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8458200" y="152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560" y="140760"/>
            <a:ext cx="1336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a3d7a"/>
                </a:solidFill>
                <a:latin typeface="Times New Roman"/>
              </a:rPr>
              <a:t>HEPATITE B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826920" y="7677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50920" y="476280"/>
            <a:ext cx="8532720" cy="45972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ção dos marcadores sorológic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179280" y="838080"/>
            <a:ext cx="8783280" cy="5557680"/>
            <a:chOff x="179280" y="838080"/>
            <a:chExt cx="8783280" cy="5557680"/>
          </a:xfrm>
        </p:grpSpPr>
        <p:sp>
          <p:nvSpPr>
            <p:cNvPr id="290" name="Rectangle 5"/>
            <p:cNvSpPr/>
            <p:nvPr/>
          </p:nvSpPr>
          <p:spPr>
            <a:xfrm>
              <a:off x="4322520" y="5514120"/>
              <a:ext cx="4636800" cy="8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É o único anticorpo que confere imunidade ao VHB. Está  presente no soro entre a 1ª e a 10ª semana após o desaparecimento do HBs Ag, sendo indicador de cura e imunidade. Está  presente isoladamente em pessoas vacinadas, ou que receberam imunoglobulina anti-hepatite B ou por transferência de anticorpos maternos durante a gestação.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250000" y="5514120"/>
              <a:ext cx="2072160" cy="8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nticorpo contra o HBsAg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179280" y="5514120"/>
              <a:ext cx="2070720" cy="8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Anti-HB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3" name="Rectangle 8"/>
            <p:cNvSpPr/>
            <p:nvPr/>
          </p:nvSpPr>
          <p:spPr>
            <a:xfrm>
              <a:off x="4322520" y="4953960"/>
              <a:ext cx="46368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Surge após o desaparecimento do HBe Ag e indica o fim da fase de replicação viral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2250000" y="4953960"/>
              <a:ext cx="207216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nticorpo contra o HBeAg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179280" y="4953960"/>
              <a:ext cx="20707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Anti-HBe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6" name="Rectangle 11"/>
            <p:cNvSpPr/>
            <p:nvPr/>
          </p:nvSpPr>
          <p:spPr>
            <a:xfrm>
              <a:off x="4322520" y="4302000"/>
              <a:ext cx="463680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É o marcador que caracteriza a fase de replicação viral. Sua positividade indica alta infecciosidade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2250000" y="4302000"/>
              <a:ext cx="207216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ntígeno que indica  replicação viral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179280" y="4302000"/>
              <a:ext cx="207072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HBeAg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4322520" y="2568960"/>
              <a:ext cx="463680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É o marcador de infecção recente, encontrado no soro até 32 semanas após a infecção. No entanto, esse marcador pode estar presente na fase crônica quando houver reagudização da infecção pelo VHB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É o marcador de infecção passada que caracteriza o contato prévio com o vírus, permanecendo por toda a vida nos indivíduos que tiveram infecção pelo vírus da hepatite B. É utilizado na triagem para a hepatite B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2250000" y="2568960"/>
              <a:ext cx="207216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nticorpo da classe IgM contra o VHB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80808"/>
                  </a:solidFill>
                  <a:latin typeface="OMBXKJ+Humanist777BT-BoldB"/>
                  <a:ea typeface="Times New Roman"/>
                </a:rPr>
                <a:t>Anticorpo da classe Ig total (IgM + IgG) contra o VHB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179280" y="2568960"/>
              <a:ext cx="207072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Anti-HBc IgM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Anti HBc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     </a:t>
              </a:r>
              <a:r>
                <a:rPr b="1" lang="pt-BR" sz="1200" spc="-1" strike="noStrike" u="sng">
                  <a:solidFill>
                    <a:srgbClr val="2a3d7a"/>
                  </a:solidFill>
                  <a:uFillTx/>
                  <a:latin typeface="OMBXKJ+Humanist777BT-BoldB"/>
                  <a:ea typeface="Times New Roman"/>
                </a:rPr>
                <a:t>ou</a:t>
              </a: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Anti HBc total 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4322520" y="1193400"/>
              <a:ext cx="463680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Primeiro marcador da infecção pelo VHB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parece de um a três semanas antes dos sintomas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Sua presença junto com o anti-HBc indica presença de infecção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Desaparece nos primeiros seis meses da doença quando a evolução é para a cura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Persistência por mais de seis meses indica infecção crônica.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2250000" y="1193400"/>
              <a:ext cx="207216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Antígeno de superfície do vírus da hepatite B (VHB)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" name="Rectangle 19"/>
            <p:cNvSpPr/>
            <p:nvPr/>
          </p:nvSpPr>
          <p:spPr>
            <a:xfrm>
              <a:off x="179280" y="1193400"/>
              <a:ext cx="2070720" cy="13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2a3d7a"/>
                  </a:solidFill>
                  <a:latin typeface="OMBXKJ+Humanist777BT-BoldB"/>
                  <a:ea typeface="Times New Roman"/>
                </a:rPr>
                <a:t>HBsAg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" name="Rectangle 20"/>
            <p:cNvSpPr/>
            <p:nvPr/>
          </p:nvSpPr>
          <p:spPr>
            <a:xfrm>
              <a:off x="4322520" y="838080"/>
              <a:ext cx="46368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Significado Clínico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2250000" y="838080"/>
              <a:ext cx="2072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Definição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" name="Rectangle 22"/>
            <p:cNvSpPr/>
            <p:nvPr/>
          </p:nvSpPr>
          <p:spPr>
            <a:xfrm>
              <a:off x="179280" y="838080"/>
              <a:ext cx="20707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OMBXKJ+Humanist777BT-BoldB"/>
                  <a:ea typeface="Times New Roman"/>
                </a:rPr>
                <a:t>Marcadores</a:t>
              </a:r>
              <a:endParaRPr b="0" lang="en-US" sz="1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179280" y="83808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179280" y="639468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79280" y="838080"/>
              <a:ext cx="1440" cy="55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8961480" y="838080"/>
              <a:ext cx="1080" cy="55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179280" y="119340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250000" y="838080"/>
              <a:ext cx="1080" cy="55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4322520" y="838080"/>
              <a:ext cx="1080" cy="555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179280" y="2568960"/>
              <a:ext cx="8782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179280" y="430200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7" name="Line 32"/>
            <p:cNvSpPr/>
            <p:nvPr/>
          </p:nvSpPr>
          <p:spPr>
            <a:xfrm>
              <a:off x="179280" y="495396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8" name="Line 33"/>
            <p:cNvSpPr/>
            <p:nvPr/>
          </p:nvSpPr>
          <p:spPr>
            <a:xfrm>
              <a:off x="179280" y="5514120"/>
              <a:ext cx="8782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19" name="Line 34"/>
          <p:cNvSpPr/>
          <p:nvPr/>
        </p:nvSpPr>
        <p:spPr>
          <a:xfrm flipH="1">
            <a:off x="177840" y="3427560"/>
            <a:ext cx="8788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8686800" y="152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488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2a3d7a"/>
                </a:solidFill>
                <a:latin typeface="Times New Roman"/>
              </a:rPr>
              <a:t>HEPATITE B</a:t>
            </a:r>
            <a:endParaRPr b="0" lang="en-US" sz="1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26920" y="767700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6161040"/>
            <a:ext cx="9144000" cy="5508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1000" spc="-1" strike="noStrike" u="sng">
                <a:solidFill>
                  <a:srgbClr val="080808"/>
                </a:solidFill>
                <a:uFillTx/>
                <a:latin typeface="Arial"/>
                <a:ea typeface="Times New Roman"/>
              </a:rPr>
              <a:t>Todos dos resultados positivos para Hepatite B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preencher a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cha de Notificaçã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específica e encaminhar à Vigilância Epidemiológica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dos os contatos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miciliares e sexuais)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de pessoas com marcador sorológico p/ hepatite B </a:t>
            </a:r>
            <a:r>
              <a:rPr b="1" i="1" lang="pt-BR" sz="1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m ser investigados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 os com marcador (es) reagente (s) devem ser notificados e os susceptíveis devem ser vacinados.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Rectangle 60"/>
          <p:cNvSpPr/>
          <p:nvPr/>
        </p:nvSpPr>
        <p:spPr>
          <a:xfrm>
            <a:off x="478080" y="333360"/>
            <a:ext cx="7229160" cy="45972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ção dos resultados dos marcadores sorológicos*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5" name="Group 442"/>
          <p:cNvGrpSpPr/>
          <p:nvPr/>
        </p:nvGrpSpPr>
        <p:grpSpPr>
          <a:xfrm>
            <a:off x="76320" y="1066680"/>
            <a:ext cx="8915040" cy="5029200"/>
            <a:chOff x="76320" y="1066680"/>
            <a:chExt cx="8915040" cy="5029200"/>
          </a:xfrm>
        </p:grpSpPr>
        <p:grpSp>
          <p:nvGrpSpPr>
            <p:cNvPr id="326" name="Group 440"/>
            <p:cNvGrpSpPr/>
            <p:nvPr/>
          </p:nvGrpSpPr>
          <p:grpSpPr>
            <a:xfrm>
              <a:off x="81000" y="1069200"/>
              <a:ext cx="8904600" cy="5023440"/>
              <a:chOff x="81000" y="1069200"/>
              <a:chExt cx="8904600" cy="5023440"/>
            </a:xfrm>
          </p:grpSpPr>
          <p:grpSp>
            <p:nvGrpSpPr>
              <p:cNvPr id="327" name="Group 371"/>
              <p:cNvGrpSpPr/>
              <p:nvPr/>
            </p:nvGrpSpPr>
            <p:grpSpPr>
              <a:xfrm>
                <a:off x="81000" y="1069200"/>
                <a:ext cx="1466640" cy="460440"/>
                <a:chOff x="81000" y="1069200"/>
                <a:chExt cx="1466640" cy="460440"/>
              </a:xfrm>
            </p:grpSpPr>
            <p:sp>
              <p:nvSpPr>
                <p:cNvPr id="328" name="Rectangle 335"/>
                <p:cNvSpPr/>
                <p:nvPr/>
              </p:nvSpPr>
              <p:spPr>
                <a:xfrm>
                  <a:off x="127440" y="1069200"/>
                  <a:ext cx="1373400" cy="46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000" spc="-1" strike="noStrike">
                      <a:solidFill>
                        <a:srgbClr val="2a3d7a"/>
                      </a:solidFill>
                      <a:latin typeface="Arial"/>
                      <a:ea typeface="Arial"/>
                    </a:rPr>
                    <a:t>HBsAg</a:t>
                  </a: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370"/>
                <p:cNvSpPr/>
                <p:nvPr/>
              </p:nvSpPr>
              <p:spPr>
                <a:xfrm>
                  <a:off x="81000" y="1069200"/>
                  <a:ext cx="1466640" cy="46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373"/>
              <p:cNvGrpSpPr/>
              <p:nvPr/>
            </p:nvGrpSpPr>
            <p:grpSpPr>
              <a:xfrm>
                <a:off x="1548000" y="1069200"/>
                <a:ext cx="1466640" cy="460440"/>
                <a:chOff x="1548000" y="1069200"/>
                <a:chExt cx="1466640" cy="460440"/>
              </a:xfrm>
            </p:grpSpPr>
            <p:sp>
              <p:nvSpPr>
                <p:cNvPr id="331" name="Rectangle 336"/>
                <p:cNvSpPr/>
                <p:nvPr/>
              </p:nvSpPr>
              <p:spPr>
                <a:xfrm>
                  <a:off x="1594440" y="1069200"/>
                  <a:ext cx="1373400" cy="46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US" sz="2000" spc="-1" strike="noStrike">
                      <a:solidFill>
                        <a:srgbClr val="2a3d7a"/>
                      </a:solidFill>
                      <a:latin typeface="Arial"/>
                      <a:ea typeface="Arial"/>
                    </a:rPr>
                    <a:t>Anti-HBc</a:t>
                  </a: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372"/>
                <p:cNvSpPr/>
                <p:nvPr/>
              </p:nvSpPr>
              <p:spPr>
                <a:xfrm>
                  <a:off x="1548000" y="1069200"/>
                  <a:ext cx="1466640" cy="46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375"/>
              <p:cNvGrpSpPr/>
              <p:nvPr/>
            </p:nvGrpSpPr>
            <p:grpSpPr>
              <a:xfrm>
                <a:off x="3015000" y="1069200"/>
                <a:ext cx="1468080" cy="460440"/>
                <a:chOff x="3015000" y="1069200"/>
                <a:chExt cx="1468080" cy="460440"/>
              </a:xfrm>
            </p:grpSpPr>
            <p:sp>
              <p:nvSpPr>
                <p:cNvPr id="334" name="Rectangle 337"/>
                <p:cNvSpPr/>
                <p:nvPr/>
              </p:nvSpPr>
              <p:spPr>
                <a:xfrm>
                  <a:off x="3061440" y="1069200"/>
                  <a:ext cx="1375200" cy="46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pt-BR" sz="2000" spc="-1" strike="noStrike">
                      <a:solidFill>
                        <a:srgbClr val="2a3d7a"/>
                      </a:solidFill>
                      <a:latin typeface="Arial"/>
                      <a:ea typeface="Arial"/>
                    </a:rPr>
                    <a:t>Anti-HBs</a:t>
                  </a: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374"/>
                <p:cNvSpPr/>
                <p:nvPr/>
              </p:nvSpPr>
              <p:spPr>
                <a:xfrm>
                  <a:off x="3015000" y="1069200"/>
                  <a:ext cx="1468080" cy="46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377"/>
              <p:cNvGrpSpPr/>
              <p:nvPr/>
            </p:nvGrpSpPr>
            <p:grpSpPr>
              <a:xfrm>
                <a:off x="4483440" y="1069200"/>
                <a:ext cx="1468440" cy="460440"/>
                <a:chOff x="4483440" y="1069200"/>
                <a:chExt cx="1468440" cy="460440"/>
              </a:xfrm>
            </p:grpSpPr>
            <p:sp>
              <p:nvSpPr>
                <p:cNvPr id="337" name="Rectangle 338"/>
                <p:cNvSpPr/>
                <p:nvPr/>
              </p:nvSpPr>
              <p:spPr>
                <a:xfrm>
                  <a:off x="4530240" y="1069200"/>
                  <a:ext cx="1374840" cy="46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200" spc="-1" strike="noStrike">
                      <a:solidFill>
                        <a:srgbClr val="2a3d7a"/>
                      </a:solidFill>
                      <a:latin typeface="Arial"/>
                      <a:ea typeface="Arial"/>
                    </a:rPr>
                    <a:t>Interpretação dos Resultados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376"/>
                <p:cNvSpPr/>
                <p:nvPr/>
              </p:nvSpPr>
              <p:spPr>
                <a:xfrm>
                  <a:off x="4483440" y="1069200"/>
                  <a:ext cx="1468440" cy="46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79"/>
              <p:cNvGrpSpPr/>
              <p:nvPr/>
            </p:nvGrpSpPr>
            <p:grpSpPr>
              <a:xfrm>
                <a:off x="5952240" y="1069200"/>
                <a:ext cx="3033360" cy="460440"/>
                <a:chOff x="5952240" y="1069200"/>
                <a:chExt cx="3033360" cy="460440"/>
              </a:xfrm>
            </p:grpSpPr>
            <p:sp>
              <p:nvSpPr>
                <p:cNvPr id="340" name="Rectangle 339"/>
                <p:cNvSpPr/>
                <p:nvPr/>
              </p:nvSpPr>
              <p:spPr>
                <a:xfrm>
                  <a:off x="5998680" y="1069200"/>
                  <a:ext cx="2940480" cy="46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400" spc="-1" strike="noStrike">
                      <a:solidFill>
                        <a:srgbClr val="2a3d7a"/>
                      </a:solidFill>
                      <a:latin typeface="Arial"/>
                      <a:ea typeface="Arial"/>
                    </a:rPr>
                    <a:t>Procedimento do Profissional</a:t>
                  </a: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378"/>
                <p:cNvSpPr/>
                <p:nvPr/>
              </p:nvSpPr>
              <p:spPr>
                <a:xfrm>
                  <a:off x="5952240" y="1069200"/>
                  <a:ext cx="3033360" cy="46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81"/>
              <p:cNvGrpSpPr/>
              <p:nvPr/>
            </p:nvGrpSpPr>
            <p:grpSpPr>
              <a:xfrm>
                <a:off x="81000" y="1529640"/>
                <a:ext cx="1466640" cy="859320"/>
                <a:chOff x="81000" y="1529640"/>
                <a:chExt cx="1466640" cy="859320"/>
              </a:xfrm>
            </p:grpSpPr>
            <p:sp>
              <p:nvSpPr>
                <p:cNvPr id="343" name="Rectangle 340"/>
                <p:cNvSpPr/>
                <p:nvPr/>
              </p:nvSpPr>
              <p:spPr>
                <a:xfrm>
                  <a:off x="127440" y="152964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380"/>
                <p:cNvSpPr/>
                <p:nvPr/>
              </p:nvSpPr>
              <p:spPr>
                <a:xfrm>
                  <a:off x="81000" y="152964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83"/>
              <p:cNvGrpSpPr/>
              <p:nvPr/>
            </p:nvGrpSpPr>
            <p:grpSpPr>
              <a:xfrm>
                <a:off x="1548000" y="1529640"/>
                <a:ext cx="1466640" cy="859320"/>
                <a:chOff x="1548000" y="1529640"/>
                <a:chExt cx="1466640" cy="859320"/>
              </a:xfrm>
            </p:grpSpPr>
            <p:sp>
              <p:nvSpPr>
                <p:cNvPr id="346" name="Rectangle 341"/>
                <p:cNvSpPr/>
                <p:nvPr/>
              </p:nvSpPr>
              <p:spPr>
                <a:xfrm>
                  <a:off x="1594440" y="152964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382"/>
                <p:cNvSpPr/>
                <p:nvPr/>
              </p:nvSpPr>
              <p:spPr>
                <a:xfrm>
                  <a:off x="1548000" y="152964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85"/>
              <p:cNvGrpSpPr/>
              <p:nvPr/>
            </p:nvGrpSpPr>
            <p:grpSpPr>
              <a:xfrm>
                <a:off x="3015000" y="1529640"/>
                <a:ext cx="1468080" cy="859320"/>
                <a:chOff x="3015000" y="1529640"/>
                <a:chExt cx="1468080" cy="859320"/>
              </a:xfrm>
            </p:grpSpPr>
            <p:sp>
              <p:nvSpPr>
                <p:cNvPr id="349" name="Rectangle 342"/>
                <p:cNvSpPr/>
                <p:nvPr/>
              </p:nvSpPr>
              <p:spPr>
                <a:xfrm>
                  <a:off x="3061440" y="1529640"/>
                  <a:ext cx="13752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84"/>
                <p:cNvSpPr/>
                <p:nvPr/>
              </p:nvSpPr>
              <p:spPr>
                <a:xfrm>
                  <a:off x="3015000" y="1529640"/>
                  <a:ext cx="146808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87"/>
              <p:cNvGrpSpPr/>
              <p:nvPr/>
            </p:nvGrpSpPr>
            <p:grpSpPr>
              <a:xfrm>
                <a:off x="4483440" y="1529640"/>
                <a:ext cx="1468440" cy="859320"/>
                <a:chOff x="4483440" y="1529640"/>
                <a:chExt cx="1468440" cy="859320"/>
              </a:xfrm>
            </p:grpSpPr>
            <p:sp>
              <p:nvSpPr>
                <p:cNvPr id="352" name="Rectangle 343"/>
                <p:cNvSpPr/>
                <p:nvPr/>
              </p:nvSpPr>
              <p:spPr>
                <a:xfrm>
                  <a:off x="4530240" y="1529640"/>
                  <a:ext cx="137484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sceptível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86"/>
                <p:cNvSpPr/>
                <p:nvPr/>
              </p:nvSpPr>
              <p:spPr>
                <a:xfrm>
                  <a:off x="4483440" y="1529640"/>
                  <a:ext cx="14684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89"/>
              <p:cNvGrpSpPr/>
              <p:nvPr/>
            </p:nvGrpSpPr>
            <p:grpSpPr>
              <a:xfrm>
                <a:off x="5952240" y="1529640"/>
                <a:ext cx="3033360" cy="859320"/>
                <a:chOff x="5952240" y="1529640"/>
                <a:chExt cx="3033360" cy="859320"/>
              </a:xfrm>
            </p:grpSpPr>
            <p:sp>
              <p:nvSpPr>
                <p:cNvPr id="355" name="Rectangle 344"/>
                <p:cNvSpPr/>
                <p:nvPr/>
              </p:nvSpPr>
              <p:spPr>
                <a:xfrm>
                  <a:off x="5998680" y="1529640"/>
                  <a:ext cx="294048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ificar esquema completo da vacina contra a hepatite B. Se necessário, iniciar ou completar o esquema vacinal. Orientar sobre as formas de prevenção das hepatites virais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8"/>
                <p:cNvSpPr/>
                <p:nvPr/>
              </p:nvSpPr>
              <p:spPr>
                <a:xfrm>
                  <a:off x="5952240" y="1529640"/>
                  <a:ext cx="303336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91"/>
              <p:cNvGrpSpPr/>
              <p:nvPr/>
            </p:nvGrpSpPr>
            <p:grpSpPr>
              <a:xfrm>
                <a:off x="81000" y="2389320"/>
                <a:ext cx="1466640" cy="655920"/>
                <a:chOff x="81000" y="2389320"/>
                <a:chExt cx="1466640" cy="655920"/>
              </a:xfrm>
            </p:grpSpPr>
            <p:sp>
              <p:nvSpPr>
                <p:cNvPr id="358" name="Rectangle 345"/>
                <p:cNvSpPr/>
                <p:nvPr/>
              </p:nvSpPr>
              <p:spPr>
                <a:xfrm>
                  <a:off x="127440" y="2389320"/>
                  <a:ext cx="1373400" cy="6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390"/>
                <p:cNvSpPr/>
                <p:nvPr/>
              </p:nvSpPr>
              <p:spPr>
                <a:xfrm>
                  <a:off x="81000" y="2389320"/>
                  <a:ext cx="1466640" cy="6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393"/>
              <p:cNvGrpSpPr/>
              <p:nvPr/>
            </p:nvGrpSpPr>
            <p:grpSpPr>
              <a:xfrm>
                <a:off x="1548000" y="2389320"/>
                <a:ext cx="1466640" cy="655920"/>
                <a:chOff x="1548000" y="2389320"/>
                <a:chExt cx="1466640" cy="655920"/>
              </a:xfrm>
            </p:grpSpPr>
            <p:sp>
              <p:nvSpPr>
                <p:cNvPr id="361" name="Rectangle 346"/>
                <p:cNvSpPr/>
                <p:nvPr/>
              </p:nvSpPr>
              <p:spPr>
                <a:xfrm>
                  <a:off x="1594440" y="2389320"/>
                  <a:ext cx="1373400" cy="6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392"/>
                <p:cNvSpPr/>
                <p:nvPr/>
              </p:nvSpPr>
              <p:spPr>
                <a:xfrm>
                  <a:off x="1548000" y="2389320"/>
                  <a:ext cx="1466640" cy="6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395"/>
              <p:cNvGrpSpPr/>
              <p:nvPr/>
            </p:nvGrpSpPr>
            <p:grpSpPr>
              <a:xfrm>
                <a:off x="3015000" y="2389320"/>
                <a:ext cx="1468080" cy="655920"/>
                <a:chOff x="3015000" y="2389320"/>
                <a:chExt cx="1468080" cy="655920"/>
              </a:xfrm>
            </p:grpSpPr>
            <p:sp>
              <p:nvSpPr>
                <p:cNvPr id="364" name="Rectangle 347"/>
                <p:cNvSpPr/>
                <p:nvPr/>
              </p:nvSpPr>
              <p:spPr>
                <a:xfrm>
                  <a:off x="3061440" y="2389320"/>
                  <a:ext cx="1375200" cy="6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394"/>
                <p:cNvSpPr/>
                <p:nvPr/>
              </p:nvSpPr>
              <p:spPr>
                <a:xfrm>
                  <a:off x="3015000" y="2389320"/>
                  <a:ext cx="1468080" cy="6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397"/>
              <p:cNvGrpSpPr/>
              <p:nvPr/>
            </p:nvGrpSpPr>
            <p:grpSpPr>
              <a:xfrm>
                <a:off x="4483440" y="2389320"/>
                <a:ext cx="1468440" cy="655920"/>
                <a:chOff x="4483440" y="2389320"/>
                <a:chExt cx="1468440" cy="655920"/>
              </a:xfrm>
            </p:grpSpPr>
            <p:sp>
              <p:nvSpPr>
                <p:cNvPr id="367" name="Rectangle 348"/>
                <p:cNvSpPr/>
                <p:nvPr/>
              </p:nvSpPr>
              <p:spPr>
                <a:xfrm>
                  <a:off x="4530240" y="2389320"/>
                  <a:ext cx="1374840" cy="6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ntato com vírus ou infecçã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396"/>
                <p:cNvSpPr/>
                <p:nvPr/>
              </p:nvSpPr>
              <p:spPr>
                <a:xfrm>
                  <a:off x="4483440" y="2389320"/>
                  <a:ext cx="1468440" cy="6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399"/>
              <p:cNvGrpSpPr/>
              <p:nvPr/>
            </p:nvGrpSpPr>
            <p:grpSpPr>
              <a:xfrm>
                <a:off x="5952240" y="2389320"/>
                <a:ext cx="3033360" cy="655920"/>
                <a:chOff x="5952240" y="2389320"/>
                <a:chExt cx="3033360" cy="655920"/>
              </a:xfrm>
            </p:grpSpPr>
            <p:sp>
              <p:nvSpPr>
                <p:cNvPr id="370" name="Rectangle 349"/>
                <p:cNvSpPr/>
                <p:nvPr/>
              </p:nvSpPr>
              <p:spPr>
                <a:xfrm>
                  <a:off x="5998680" y="2389320"/>
                  <a:ext cx="2940480" cy="65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lher 2ª amostra do Anti-HBc. Se o  resultado for reagente, agendar infectologista no Cismepar e realizar as  orientações de prevenção das hepatites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398"/>
                <p:cNvSpPr/>
                <p:nvPr/>
              </p:nvSpPr>
              <p:spPr>
                <a:xfrm>
                  <a:off x="5952240" y="2389320"/>
                  <a:ext cx="3033360" cy="65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401"/>
              <p:cNvGrpSpPr/>
              <p:nvPr/>
            </p:nvGrpSpPr>
            <p:grpSpPr>
              <a:xfrm>
                <a:off x="81000" y="3045240"/>
                <a:ext cx="1466640" cy="566280"/>
                <a:chOff x="81000" y="3045240"/>
                <a:chExt cx="1466640" cy="566280"/>
              </a:xfrm>
            </p:grpSpPr>
            <p:sp>
              <p:nvSpPr>
                <p:cNvPr id="373" name="Rectangle 350"/>
                <p:cNvSpPr/>
                <p:nvPr/>
              </p:nvSpPr>
              <p:spPr>
                <a:xfrm>
                  <a:off x="127440" y="3045240"/>
                  <a:ext cx="1373400" cy="56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400"/>
                <p:cNvSpPr/>
                <p:nvPr/>
              </p:nvSpPr>
              <p:spPr>
                <a:xfrm>
                  <a:off x="81000" y="3045240"/>
                  <a:ext cx="1466640" cy="56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403"/>
              <p:cNvGrpSpPr/>
              <p:nvPr/>
            </p:nvGrpSpPr>
            <p:grpSpPr>
              <a:xfrm>
                <a:off x="1548000" y="3045240"/>
                <a:ext cx="1466640" cy="566280"/>
                <a:chOff x="1548000" y="3045240"/>
                <a:chExt cx="1466640" cy="566280"/>
              </a:xfrm>
            </p:grpSpPr>
            <p:sp>
              <p:nvSpPr>
                <p:cNvPr id="376" name="Rectangle 351"/>
                <p:cNvSpPr/>
                <p:nvPr/>
              </p:nvSpPr>
              <p:spPr>
                <a:xfrm>
                  <a:off x="1594440" y="3045240"/>
                  <a:ext cx="1373400" cy="56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402"/>
                <p:cNvSpPr/>
                <p:nvPr/>
              </p:nvSpPr>
              <p:spPr>
                <a:xfrm>
                  <a:off x="1548000" y="3045240"/>
                  <a:ext cx="1466640" cy="56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405"/>
              <p:cNvGrpSpPr/>
              <p:nvPr/>
            </p:nvGrpSpPr>
            <p:grpSpPr>
              <a:xfrm>
                <a:off x="3015000" y="3045240"/>
                <a:ext cx="1468080" cy="566280"/>
                <a:chOff x="3015000" y="3045240"/>
                <a:chExt cx="1468080" cy="566280"/>
              </a:xfrm>
            </p:grpSpPr>
            <p:sp>
              <p:nvSpPr>
                <p:cNvPr id="379" name="Rectangle 352"/>
                <p:cNvSpPr/>
                <p:nvPr/>
              </p:nvSpPr>
              <p:spPr>
                <a:xfrm>
                  <a:off x="3061440" y="3045240"/>
                  <a:ext cx="1375200" cy="56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404"/>
                <p:cNvSpPr/>
                <p:nvPr/>
              </p:nvSpPr>
              <p:spPr>
                <a:xfrm>
                  <a:off x="3015000" y="3045240"/>
                  <a:ext cx="1468080" cy="56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407"/>
              <p:cNvGrpSpPr/>
              <p:nvPr/>
            </p:nvGrpSpPr>
            <p:grpSpPr>
              <a:xfrm>
                <a:off x="4483440" y="3045240"/>
                <a:ext cx="1468440" cy="566280"/>
                <a:chOff x="4483440" y="3045240"/>
                <a:chExt cx="1468440" cy="566280"/>
              </a:xfrm>
            </p:grpSpPr>
            <p:sp>
              <p:nvSpPr>
                <p:cNvPr id="382" name="Rectangle 353"/>
                <p:cNvSpPr/>
                <p:nvPr/>
              </p:nvSpPr>
              <p:spPr>
                <a:xfrm>
                  <a:off x="4530240" y="3045240"/>
                  <a:ext cx="1374840" cy="56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munidade, infecção passada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406"/>
                <p:cNvSpPr/>
                <p:nvPr/>
              </p:nvSpPr>
              <p:spPr>
                <a:xfrm>
                  <a:off x="4483440" y="3045240"/>
                  <a:ext cx="1468440" cy="56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409"/>
              <p:cNvGrpSpPr/>
              <p:nvPr/>
            </p:nvGrpSpPr>
            <p:grpSpPr>
              <a:xfrm>
                <a:off x="5952240" y="3045240"/>
                <a:ext cx="3033360" cy="566280"/>
                <a:chOff x="5952240" y="3045240"/>
                <a:chExt cx="3033360" cy="566280"/>
              </a:xfrm>
            </p:grpSpPr>
            <p:sp>
              <p:nvSpPr>
                <p:cNvPr id="385" name="Rectangle 354"/>
                <p:cNvSpPr/>
                <p:nvPr/>
              </p:nvSpPr>
              <p:spPr>
                <a:xfrm>
                  <a:off x="5998680" y="3045240"/>
                  <a:ext cx="2940480" cy="56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ientações de prevenção das demais hepatites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408"/>
                <p:cNvSpPr/>
                <p:nvPr/>
              </p:nvSpPr>
              <p:spPr>
                <a:xfrm>
                  <a:off x="5952240" y="3045240"/>
                  <a:ext cx="3033360" cy="56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411"/>
              <p:cNvGrpSpPr/>
              <p:nvPr/>
            </p:nvGrpSpPr>
            <p:grpSpPr>
              <a:xfrm>
                <a:off x="81000" y="3611880"/>
                <a:ext cx="1466640" cy="761760"/>
                <a:chOff x="81000" y="3611880"/>
                <a:chExt cx="1466640" cy="761760"/>
              </a:xfrm>
            </p:grpSpPr>
            <p:sp>
              <p:nvSpPr>
                <p:cNvPr id="388" name="Rectangle 355"/>
                <p:cNvSpPr/>
                <p:nvPr/>
              </p:nvSpPr>
              <p:spPr>
                <a:xfrm>
                  <a:off x="127440" y="3611880"/>
                  <a:ext cx="13734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410"/>
                <p:cNvSpPr/>
                <p:nvPr/>
              </p:nvSpPr>
              <p:spPr>
                <a:xfrm>
                  <a:off x="81000" y="3611880"/>
                  <a:ext cx="14666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413"/>
              <p:cNvGrpSpPr/>
              <p:nvPr/>
            </p:nvGrpSpPr>
            <p:grpSpPr>
              <a:xfrm>
                <a:off x="1548000" y="3611880"/>
                <a:ext cx="1466640" cy="761760"/>
                <a:chOff x="1548000" y="3611880"/>
                <a:chExt cx="1466640" cy="761760"/>
              </a:xfrm>
            </p:grpSpPr>
            <p:sp>
              <p:nvSpPr>
                <p:cNvPr id="391" name="Rectangle 356"/>
                <p:cNvSpPr/>
                <p:nvPr/>
              </p:nvSpPr>
              <p:spPr>
                <a:xfrm>
                  <a:off x="1594440" y="3611880"/>
                  <a:ext cx="13734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412"/>
                <p:cNvSpPr/>
                <p:nvPr/>
              </p:nvSpPr>
              <p:spPr>
                <a:xfrm>
                  <a:off x="1548000" y="3611880"/>
                  <a:ext cx="14666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415"/>
              <p:cNvGrpSpPr/>
              <p:nvPr/>
            </p:nvGrpSpPr>
            <p:grpSpPr>
              <a:xfrm>
                <a:off x="3015000" y="3611880"/>
                <a:ext cx="1468080" cy="761760"/>
                <a:chOff x="3015000" y="3611880"/>
                <a:chExt cx="1468080" cy="761760"/>
              </a:xfrm>
            </p:grpSpPr>
            <p:sp>
              <p:nvSpPr>
                <p:cNvPr id="394" name="Rectangle 357"/>
                <p:cNvSpPr/>
                <p:nvPr/>
              </p:nvSpPr>
              <p:spPr>
                <a:xfrm>
                  <a:off x="3061440" y="3611880"/>
                  <a:ext cx="137520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414"/>
                <p:cNvSpPr/>
                <p:nvPr/>
              </p:nvSpPr>
              <p:spPr>
                <a:xfrm>
                  <a:off x="3015000" y="3611880"/>
                  <a:ext cx="14680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417"/>
              <p:cNvGrpSpPr/>
              <p:nvPr/>
            </p:nvGrpSpPr>
            <p:grpSpPr>
              <a:xfrm>
                <a:off x="4483440" y="3611880"/>
                <a:ext cx="1468440" cy="761760"/>
                <a:chOff x="4483440" y="3611880"/>
                <a:chExt cx="1468440" cy="761760"/>
              </a:xfrm>
            </p:grpSpPr>
            <p:sp>
              <p:nvSpPr>
                <p:cNvPr id="397" name="Rectangle 358"/>
                <p:cNvSpPr/>
                <p:nvPr/>
              </p:nvSpPr>
              <p:spPr>
                <a:xfrm>
                  <a:off x="4530240" y="3611880"/>
                  <a:ext cx="137484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cubaçã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416"/>
                <p:cNvSpPr/>
                <p:nvPr/>
              </p:nvSpPr>
              <p:spPr>
                <a:xfrm>
                  <a:off x="4483440" y="3611880"/>
                  <a:ext cx="1468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419"/>
              <p:cNvGrpSpPr/>
              <p:nvPr/>
            </p:nvGrpSpPr>
            <p:grpSpPr>
              <a:xfrm>
                <a:off x="5952240" y="3611880"/>
                <a:ext cx="3033360" cy="761760"/>
                <a:chOff x="5952240" y="3611880"/>
                <a:chExt cx="3033360" cy="761760"/>
              </a:xfrm>
            </p:grpSpPr>
            <p:sp>
              <p:nvSpPr>
                <p:cNvPr id="400" name="Rectangle 359"/>
                <p:cNvSpPr/>
                <p:nvPr/>
              </p:nvSpPr>
              <p:spPr>
                <a:xfrm>
                  <a:off x="5998680" y="3611880"/>
                  <a:ext cx="2940480" cy="76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Repetir todos os marcadores em 30 dias (para esclarecer fase aguda ou falso positivo)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418"/>
                <p:cNvSpPr/>
                <p:nvPr/>
              </p:nvSpPr>
              <p:spPr>
                <a:xfrm>
                  <a:off x="5952240" y="3611880"/>
                  <a:ext cx="3033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Group 421"/>
              <p:cNvGrpSpPr/>
              <p:nvPr/>
            </p:nvGrpSpPr>
            <p:grpSpPr>
              <a:xfrm>
                <a:off x="81000" y="4374000"/>
                <a:ext cx="1466640" cy="859320"/>
                <a:chOff x="81000" y="4374000"/>
                <a:chExt cx="1466640" cy="859320"/>
              </a:xfrm>
            </p:grpSpPr>
            <p:sp>
              <p:nvSpPr>
                <p:cNvPr id="403" name="Rectangle 360"/>
                <p:cNvSpPr/>
                <p:nvPr/>
              </p:nvSpPr>
              <p:spPr>
                <a:xfrm>
                  <a:off x="127440" y="437400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420"/>
                <p:cNvSpPr/>
                <p:nvPr/>
              </p:nvSpPr>
              <p:spPr>
                <a:xfrm>
                  <a:off x="81000" y="437400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423"/>
              <p:cNvGrpSpPr/>
              <p:nvPr/>
            </p:nvGrpSpPr>
            <p:grpSpPr>
              <a:xfrm>
                <a:off x="1548000" y="4374000"/>
                <a:ext cx="1466640" cy="859320"/>
                <a:chOff x="1548000" y="4374000"/>
                <a:chExt cx="1466640" cy="859320"/>
              </a:xfrm>
            </p:grpSpPr>
            <p:sp>
              <p:nvSpPr>
                <p:cNvPr id="406" name="Rectangle 361"/>
                <p:cNvSpPr/>
                <p:nvPr/>
              </p:nvSpPr>
              <p:spPr>
                <a:xfrm>
                  <a:off x="1594440" y="437400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422"/>
                <p:cNvSpPr/>
                <p:nvPr/>
              </p:nvSpPr>
              <p:spPr>
                <a:xfrm>
                  <a:off x="1548000" y="437400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425"/>
              <p:cNvGrpSpPr/>
              <p:nvPr/>
            </p:nvGrpSpPr>
            <p:grpSpPr>
              <a:xfrm>
                <a:off x="3015000" y="4374000"/>
                <a:ext cx="1468080" cy="859320"/>
                <a:chOff x="3015000" y="4374000"/>
                <a:chExt cx="1468080" cy="859320"/>
              </a:xfrm>
            </p:grpSpPr>
            <p:sp>
              <p:nvSpPr>
                <p:cNvPr id="409" name="Rectangle 362"/>
                <p:cNvSpPr/>
                <p:nvPr/>
              </p:nvSpPr>
              <p:spPr>
                <a:xfrm>
                  <a:off x="3061440" y="4374000"/>
                  <a:ext cx="13752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424"/>
                <p:cNvSpPr/>
                <p:nvPr/>
              </p:nvSpPr>
              <p:spPr>
                <a:xfrm>
                  <a:off x="3015000" y="4374000"/>
                  <a:ext cx="146808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427"/>
              <p:cNvGrpSpPr/>
              <p:nvPr/>
            </p:nvGrpSpPr>
            <p:grpSpPr>
              <a:xfrm>
                <a:off x="4483440" y="4374000"/>
                <a:ext cx="1468440" cy="859320"/>
                <a:chOff x="4483440" y="4374000"/>
                <a:chExt cx="1468440" cy="859320"/>
              </a:xfrm>
            </p:grpSpPr>
            <p:sp>
              <p:nvSpPr>
                <p:cNvPr id="412" name="Rectangle 363"/>
                <p:cNvSpPr/>
                <p:nvPr/>
              </p:nvSpPr>
              <p:spPr>
                <a:xfrm>
                  <a:off x="4530240" y="4374000"/>
                  <a:ext cx="137484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se de Transição; é rar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Rectangle 426"/>
                <p:cNvSpPr/>
                <p:nvPr/>
              </p:nvSpPr>
              <p:spPr>
                <a:xfrm>
                  <a:off x="4483440" y="4374000"/>
                  <a:ext cx="14684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429"/>
              <p:cNvGrpSpPr/>
              <p:nvPr/>
            </p:nvGrpSpPr>
            <p:grpSpPr>
              <a:xfrm>
                <a:off x="5952240" y="4374000"/>
                <a:ext cx="3033360" cy="859320"/>
                <a:chOff x="5952240" y="4374000"/>
                <a:chExt cx="3033360" cy="859320"/>
              </a:xfrm>
            </p:grpSpPr>
            <p:sp>
              <p:nvSpPr>
                <p:cNvPr id="415" name="Rectangle 364"/>
                <p:cNvSpPr/>
                <p:nvPr/>
              </p:nvSpPr>
              <p:spPr>
                <a:xfrm>
                  <a:off x="5998680" y="4374000"/>
                  <a:ext cx="294048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petir o HBsAg e o Anti-HBs em 30 a 60 dias. Se o HBsAg (-) e o Anti-HBs (+), indicam cura e alta ao paciente. Se o HBsAg (+) </a:t>
                  </a:r>
                  <a:r>
                    <a:rPr b="0" lang="en-GB" sz="10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e Anti HBs (-), 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ncaminhá-lo ao Cismepar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Rectangle 428"/>
                <p:cNvSpPr/>
                <p:nvPr/>
              </p:nvSpPr>
              <p:spPr>
                <a:xfrm>
                  <a:off x="5952240" y="4374000"/>
                  <a:ext cx="303336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431"/>
              <p:cNvGrpSpPr/>
              <p:nvPr/>
            </p:nvGrpSpPr>
            <p:grpSpPr>
              <a:xfrm>
                <a:off x="81000" y="5233320"/>
                <a:ext cx="1466640" cy="859320"/>
                <a:chOff x="81000" y="5233320"/>
                <a:chExt cx="1466640" cy="859320"/>
              </a:xfrm>
            </p:grpSpPr>
            <p:sp>
              <p:nvSpPr>
                <p:cNvPr id="418" name="Rectangle 365"/>
                <p:cNvSpPr/>
                <p:nvPr/>
              </p:nvSpPr>
              <p:spPr>
                <a:xfrm>
                  <a:off x="127440" y="523332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430"/>
                <p:cNvSpPr/>
                <p:nvPr/>
              </p:nvSpPr>
              <p:spPr>
                <a:xfrm>
                  <a:off x="81000" y="523332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Group 433"/>
              <p:cNvGrpSpPr/>
              <p:nvPr/>
            </p:nvGrpSpPr>
            <p:grpSpPr>
              <a:xfrm>
                <a:off x="1548000" y="5233320"/>
                <a:ext cx="1466640" cy="859320"/>
                <a:chOff x="1548000" y="5233320"/>
                <a:chExt cx="1466640" cy="859320"/>
              </a:xfrm>
            </p:grpSpPr>
            <p:sp>
              <p:nvSpPr>
                <p:cNvPr id="421" name="Rectangle 366"/>
                <p:cNvSpPr/>
                <p:nvPr/>
              </p:nvSpPr>
              <p:spPr>
                <a:xfrm>
                  <a:off x="1594440" y="5233320"/>
                  <a:ext cx="13734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si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432"/>
                <p:cNvSpPr/>
                <p:nvPr/>
              </p:nvSpPr>
              <p:spPr>
                <a:xfrm>
                  <a:off x="1548000" y="5233320"/>
                  <a:ext cx="14666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Group 435"/>
              <p:cNvGrpSpPr/>
              <p:nvPr/>
            </p:nvGrpSpPr>
            <p:grpSpPr>
              <a:xfrm>
                <a:off x="3015000" y="5233320"/>
                <a:ext cx="1468080" cy="859320"/>
                <a:chOff x="3015000" y="5233320"/>
                <a:chExt cx="1468080" cy="859320"/>
              </a:xfrm>
            </p:grpSpPr>
            <p:sp>
              <p:nvSpPr>
                <p:cNvPr id="424" name="Rectangle 367"/>
                <p:cNvSpPr/>
                <p:nvPr/>
              </p:nvSpPr>
              <p:spPr>
                <a:xfrm>
                  <a:off x="3061440" y="5233320"/>
                  <a:ext cx="137520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gativo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434"/>
                <p:cNvSpPr/>
                <p:nvPr/>
              </p:nvSpPr>
              <p:spPr>
                <a:xfrm>
                  <a:off x="3015000" y="5233320"/>
                  <a:ext cx="146808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Group 437"/>
              <p:cNvGrpSpPr/>
              <p:nvPr/>
            </p:nvGrpSpPr>
            <p:grpSpPr>
              <a:xfrm>
                <a:off x="4483440" y="5233320"/>
                <a:ext cx="1468440" cy="859320"/>
                <a:chOff x="4483440" y="5233320"/>
                <a:chExt cx="1468440" cy="859320"/>
              </a:xfrm>
            </p:grpSpPr>
            <p:sp>
              <p:nvSpPr>
                <p:cNvPr id="427" name="Rectangle 368"/>
                <p:cNvSpPr/>
                <p:nvPr/>
              </p:nvSpPr>
              <p:spPr>
                <a:xfrm>
                  <a:off x="4530240" y="5233320"/>
                  <a:ext cx="137484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se Aguda ou Hepatite Crônica</a:t>
                  </a: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1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436"/>
                <p:cNvSpPr/>
                <p:nvPr/>
              </p:nvSpPr>
              <p:spPr>
                <a:xfrm>
                  <a:off x="4483440" y="5233320"/>
                  <a:ext cx="146844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439"/>
              <p:cNvGrpSpPr/>
              <p:nvPr/>
            </p:nvGrpSpPr>
            <p:grpSpPr>
              <a:xfrm>
                <a:off x="5952240" y="5233320"/>
                <a:ext cx="3033360" cy="859320"/>
                <a:chOff x="5952240" y="5233320"/>
                <a:chExt cx="3033360" cy="859320"/>
              </a:xfrm>
            </p:grpSpPr>
            <p:sp>
              <p:nvSpPr>
                <p:cNvPr id="430" name="Rectangle 369"/>
                <p:cNvSpPr/>
                <p:nvPr/>
              </p:nvSpPr>
              <p:spPr>
                <a:xfrm>
                  <a:off x="5998680" y="5233320"/>
                  <a:ext cx="2940480" cy="85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alizar o Anti-HBc IgM (se tiver história de hepatite aguda), </a:t>
                  </a:r>
                  <a:r>
                    <a:rPr b="0" lang="en-GB" sz="1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ou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repetir o HBsAg e o Anti-HBs em 6 mêses. Se </a:t>
                  </a:r>
                  <a:r>
                    <a:rPr b="0" lang="en-GB" sz="1000" spc="-1" strike="noStrike">
                      <a:solidFill>
                        <a:srgbClr val="080808"/>
                      </a:solidFill>
                      <a:latin typeface="Arial"/>
                      <a:ea typeface="Arial"/>
                    </a:rPr>
                    <a:t>Anti-HBs (+), </a:t>
                  </a: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ura e alta ao paciente. Se HBsAg (+), encaminhá-lo ao Cismepar.</a:t>
                  </a:r>
                  <a:endParaRPr b="0" lang="en-US" sz="10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438"/>
                <p:cNvSpPr/>
                <p:nvPr/>
              </p:nvSpPr>
              <p:spPr>
                <a:xfrm>
                  <a:off x="5952240" y="5233320"/>
                  <a:ext cx="3033360" cy="85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2" name="Rectangle 441"/>
            <p:cNvSpPr/>
            <p:nvPr/>
          </p:nvSpPr>
          <p:spPr>
            <a:xfrm>
              <a:off x="76320" y="1066680"/>
              <a:ext cx="8915040" cy="5029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33" name="Text Box 443"/>
          <p:cNvSpPr/>
          <p:nvPr/>
        </p:nvSpPr>
        <p:spPr>
          <a:xfrm>
            <a:off x="8534520" y="152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2a3d7a"/>
                </a:solidFill>
                <a:latin typeface="Times New Roman"/>
              </a:rPr>
              <a:t>Doadores de Bancos de Sangue, com marcadores de Hepatite B reagentes:</a:t>
            </a:r>
            <a:endParaRPr b="0" lang="en-US" sz="1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5" name="Line 2"/>
          <p:cNvSpPr/>
          <p:nvPr/>
        </p:nvSpPr>
        <p:spPr>
          <a:xfrm>
            <a:off x="1258920" y="148428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68360" y="907920"/>
            <a:ext cx="165564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Bs Ag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 HBc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250920" y="1989000"/>
            <a:ext cx="24494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encher a ficha epidemiológica de hepatites virais e encaminhar por malote à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1258920" y="285264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79280" y="3357720"/>
            <a:ext cx="244980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her marcadores viraispara hepatite B ( HBs Ag e Anti HBc)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179280" y="4437000"/>
            <a:ext cx="244980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aterial será enviado ao LACEN via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1258920" y="5084640"/>
            <a:ext cx="14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79280" y="5661000"/>
            <a:ext cx="237672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guir o fluxo de Hepatite B         ( crônico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468360" y="6237360"/>
            <a:ext cx="8136000" cy="36036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oadores de sangue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quando encaminhados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o CISMEPA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deverão levar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mãos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os laudos dos marcadores virais realizados no banco de sangue e no LAC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4716360" y="907920"/>
            <a:ext cx="165744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HBs Ag negativo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nti HBc reagen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5508720" y="148428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4211640" y="1844640"/>
            <a:ext cx="24494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eencher a ficha epidemiológica de hepatites virais e encaminhar por malote à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Line 14"/>
          <p:cNvSpPr/>
          <p:nvPr/>
        </p:nvSpPr>
        <p:spPr>
          <a:xfrm>
            <a:off x="5508720" y="270828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4140360" y="3068640"/>
            <a:ext cx="244944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lher marcadores viraispara hepatite B ( HBs Ag, Anti HBc e Anti HBs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3780000" y="4437000"/>
            <a:ext cx="1368360" cy="70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BS AG negativ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nti Hbc reage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nti HBs reage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1258920" y="3860640"/>
            <a:ext cx="1440" cy="5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Line 18"/>
          <p:cNvSpPr/>
          <p:nvPr/>
        </p:nvSpPr>
        <p:spPr>
          <a:xfrm>
            <a:off x="4572000" y="515772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5724360" y="4437000"/>
            <a:ext cx="1368720" cy="70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BS AG negativ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nti Hbc reagen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Anti HBs negativ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3851280" y="5516640"/>
            <a:ext cx="136836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munidade para Hepatite B ( CURA)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940360" y="5445000"/>
            <a:ext cx="1943280" cy="398520"/>
          </a:xfrm>
          <a:prstGeom prst="rect">
            <a:avLst/>
          </a:prstGeom>
          <a:solidFill>
            <a:srgbClr val="c3e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Encaminhar ao CISMEPAR para avaliação *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5508720" y="3860640"/>
            <a:ext cx="1224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6732720" y="3500280"/>
            <a:ext cx="2160360" cy="64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material será enviado ao LACEN via Vigilância Epidemiológic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Line 24"/>
          <p:cNvSpPr/>
          <p:nvPr/>
        </p:nvSpPr>
        <p:spPr>
          <a:xfrm>
            <a:off x="5508720" y="371628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Line 25"/>
          <p:cNvSpPr/>
          <p:nvPr/>
        </p:nvSpPr>
        <p:spPr>
          <a:xfrm>
            <a:off x="4643280" y="4076640"/>
            <a:ext cx="1584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Line 26"/>
          <p:cNvSpPr/>
          <p:nvPr/>
        </p:nvSpPr>
        <p:spPr>
          <a:xfrm>
            <a:off x="4643280" y="4076640"/>
            <a:ext cx="180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227640" y="4076640"/>
            <a:ext cx="1800" cy="362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>
            <a:off x="6804000" y="5157720"/>
            <a:ext cx="144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Text Box 30"/>
          <p:cNvSpPr/>
          <p:nvPr/>
        </p:nvSpPr>
        <p:spPr>
          <a:xfrm>
            <a:off x="8534520" y="152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vilson</dc:creator>
  <dc:description/>
  <dc:language>en-US</dc:language>
  <cp:lastModifiedBy>SESA</cp:lastModifiedBy>
  <dcterms:modified xsi:type="dcterms:W3CDTF">2015-08-03T17:38:57Z</dcterms:modified>
  <cp:revision>179</cp:revision>
  <dc:subject/>
  <dc:title>FLUXOGRAMA DE INVESTIGAÇÃO LABORATORIAL DAS HEPATITES VIRAIS NA ATENÇÃO BÁSICA</dc:title>
</cp:coreProperties>
</file>