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0C1-0889-4383-814A-3AEC020C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D00-5475-4BA0-870A-3A5E8D5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24E-0406-4F47-BBFA-8D411E98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1B2-7E19-4DE1-9BA0-1525BDB6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6B1-AB2B-4C15-8CE5-37963C2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ECF-49E1-4D7B-B318-DB5AD1E7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BF9-7B10-4690-9545-AFB1460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734-78DD-4EE8-B31A-81F5CDE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FCE-4254-492E-853F-883CA27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022-C15F-4C19-BECD-3D2B8EB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3D0-2B20-443E-AC69-9B42485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EBD-6ECD-4BB0-9D56-EA5FF98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C954-9967-4BC5-8A6F-D48A28C7DE4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7562880" y="57240"/>
            <a:ext cx="1558800" cy="6740280"/>
            <a:chOff x="7562880" y="57240"/>
            <a:chExt cx="1558800" cy="6740280"/>
          </a:xfrm>
        </p:grpSpPr>
        <p:pic>
          <p:nvPicPr>
            <p:cNvPr id="6" name="Picture 8" descr="IMG_5877_B"/>
            <p:cNvPicPr/>
            <p:nvPr/>
          </p:nvPicPr>
          <p:blipFill>
            <a:blip r:embed="rId2"/>
            <a:srcRect l="0" t="0" r="0" b="6512"/>
            <a:stretch/>
          </p:blipFill>
          <p:spPr>
            <a:xfrm>
              <a:off x="7574040" y="103320"/>
              <a:ext cx="153504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IMG_5912_B"/>
            <p:cNvPicPr/>
            <p:nvPr/>
          </p:nvPicPr>
          <p:blipFill>
            <a:blip r:embed="rId3"/>
            <a:stretch/>
          </p:blipFill>
          <p:spPr>
            <a:xfrm>
              <a:off x="7596360" y="1197000"/>
              <a:ext cx="1525320" cy="10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IMG_5820_B"/>
            <p:cNvPicPr/>
            <p:nvPr/>
          </p:nvPicPr>
          <p:blipFill>
            <a:blip r:embed="rId4"/>
            <a:srcRect l="2804" t="0" r="0" b="0"/>
            <a:stretch/>
          </p:blipFill>
          <p:spPr>
            <a:xfrm>
              <a:off x="7562880" y="2349360"/>
              <a:ext cx="154620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IMG_5822_AA"/>
            <p:cNvPicPr/>
            <p:nvPr/>
          </p:nvPicPr>
          <p:blipFill>
            <a:blip r:embed="rId5"/>
            <a:stretch/>
          </p:blipFill>
          <p:spPr>
            <a:xfrm>
              <a:off x="7596360" y="3467160"/>
              <a:ext cx="15080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2" descr="IMG_5830_B"/>
            <p:cNvPicPr/>
            <p:nvPr/>
          </p:nvPicPr>
          <p:blipFill>
            <a:blip r:embed="rId6"/>
            <a:stretch/>
          </p:blipFill>
          <p:spPr>
            <a:xfrm>
              <a:off x="7591320" y="4624560"/>
              <a:ext cx="150984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3" descr="IMG_5948_B"/>
            <p:cNvPicPr/>
            <p:nvPr/>
          </p:nvPicPr>
          <p:blipFill>
            <a:blip r:embed="rId7"/>
            <a:srcRect l="9644" t="12380" r="32341" b="20597"/>
            <a:stretch/>
          </p:blipFill>
          <p:spPr>
            <a:xfrm>
              <a:off x="7658280" y="5710320"/>
              <a:ext cx="140328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Rectangle 14"/>
            <p:cNvSpPr/>
            <p:nvPr/>
          </p:nvSpPr>
          <p:spPr>
            <a:xfrm>
              <a:off x="7581960" y="456876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581960" y="344160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581960" y="231948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581960" y="119052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7581960" y="5724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581960" y="5692680"/>
              <a:ext cx="1538280" cy="1104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source=images&amp;cd=&amp;cad=rja&amp;uact=8&amp;docid=1dw_d06sj-wq6M&amp;tbnid=b7CMUaGWlSfWUM&amp;ved=0CAgQjRw&amp;url=http%3A%2F%2Fhivempauta.wordpress.com%2Ftag%2Fteste%2F&amp;ei=iy15U4zkLPKvsATtvICgDQ&amp;psig=AFQjCNH60F2Y4GRhegDmyUsM8SKIDuRNoA&amp;ust=1400536843817716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cta@asms.londrina.pr.gov.br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268360"/>
            <a:ext cx="752148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E RÁP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IDO</a:t>
            </a: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PATITES VIRAI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HIV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SÍFILI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-1440" y="4941720"/>
            <a:ext cx="7522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UIZ TOSHIO 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ULHO -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t0.gstatic.com/images?q=tbn:ANd9GcTJPKLC41ARkQdZhzv_zCWeRzhvOwliWGFD9Lgk9-jKZTmqZ0htJ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293760"/>
            <a:ext cx="36003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vestigação : Anticorpos anti-HCV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a  –  WAMA              AL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unção digit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 10 microlitro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 para leitur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entre 5 e 20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Não Reagente / Reagente 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anela Imunológica de 90 dia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140360" y="2276640"/>
            <a:ext cx="1079280" cy="71280"/>
          </a:xfrm>
          <a:prstGeom prst="rightArrow">
            <a:avLst>
              <a:gd name="adj1" fmla="val 50000"/>
              <a:gd name="adj2" fmla="val 3785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5636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-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ULTADO :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NÃO REAGE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formar significado do resultado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 Avaliar Situação de risco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valiar Janela Imunológica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ientações sobre preven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erta de preservativos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SULTADO : RE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formar significado do result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valiar Situação de Risco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ferecer teste para contatos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vestigar sinais e sintomas de doença avançada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-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FIRMAR DIAGNÓSTICO COM 2 SOROLOGIA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ncaminhamento para serviço de referência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rientações sobre preven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ferta de preservativo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6"/>
          <p:cNvSpPr/>
          <p:nvPr/>
        </p:nvSpPr>
        <p:spPr>
          <a:xfrm>
            <a:off x="0" y="289440"/>
            <a:ext cx="75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9 UBS QUE ESTÃO OFERTANDO E REALIZANDO OS TESTES RÁPIDOS PARA HIV, SÍFILIS, HEPATITES B e C – atualizado 28/05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746360"/>
          <a:ext cx="7596360" cy="4201920"/>
        </p:xfrm>
        <a:graphic>
          <a:graphicData uri="http://schemas.openxmlformats.org/drawingml/2006/table">
            <a:tbl>
              <a:tblPr/>
              <a:tblGrid>
                <a:gridCol w="1379520"/>
                <a:gridCol w="1222560"/>
                <a:gridCol w="1255680"/>
                <a:gridCol w="1197000"/>
                <a:gridCol w="1076040"/>
                <a:gridCol w="1465560"/>
              </a:tblGrid>
              <a:tr h="395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fez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mi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ni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av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fe New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ro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ab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vo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la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erê/ Taquar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ig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n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ti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nab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rrovi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2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ia Cecí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do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dó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eir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la Cas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avil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ão Pa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 Izid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ster Tho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n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iquerê/ Guairac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ton Gave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poã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o Amp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dim do 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la N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nascial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ão Vitó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ók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ter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ão Lu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2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i Xa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la Ricar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bo F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ês Bo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mpos Ver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mile Deque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2205000"/>
          <a:ext cx="7596360" cy="3168720"/>
        </p:xfrm>
        <a:graphic>
          <a:graphicData uri="http://schemas.openxmlformats.org/drawingml/2006/table">
            <a:tbl>
              <a:tblPr/>
              <a:tblGrid>
                <a:gridCol w="1332000"/>
                <a:gridCol w="934920"/>
                <a:gridCol w="720720"/>
                <a:gridCol w="863640"/>
                <a:gridCol w="865080"/>
                <a:gridCol w="1106640"/>
                <a:gridCol w="915840"/>
                <a:gridCol w="857520"/>
              </a:tblGrid>
              <a:tr h="895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/ Regi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FI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tângulo 2"/>
          <p:cNvSpPr/>
          <p:nvPr/>
        </p:nvSpPr>
        <p:spPr>
          <a:xfrm>
            <a:off x="0" y="6858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Número de TR HIV, Sífilis, Hepatites B e C realizados pelas UBS de Londrina, por região, no período de julho de 2010 a maio de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3"/>
          <p:cNvSpPr/>
          <p:nvPr/>
        </p:nvSpPr>
        <p:spPr>
          <a:xfrm>
            <a:off x="27000" y="5732640"/>
            <a:ext cx="555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Fonte: Relatórios de Testes Rápidos encaminhados ao C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913440"/>
        </p:xfrm>
        <a:graphic>
          <a:graphicData uri="http://schemas.openxmlformats.org/drawingml/2006/table">
            <a:tbl>
              <a:tblPr/>
              <a:tblGrid>
                <a:gridCol w="1224000"/>
                <a:gridCol w="879480"/>
                <a:gridCol w="880920"/>
                <a:gridCol w="879480"/>
                <a:gridCol w="879480"/>
                <a:gridCol w="879480"/>
                <a:gridCol w="879480"/>
                <a:gridCol w="881280"/>
                <a:gridCol w="880920"/>
                <a:gridCol w="879480"/>
              </a:tblGrid>
              <a:tr h="568440"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Testes Rápidos, realizados pelo CTA, no período de 2008 a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/ 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FI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: Implantação no CTA do TR HIV em 11/02/2008; TR Sífilis, Hepatites B e C em 31/05/2014. Fonte: Si-C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TR com resultado REAGENTE, realizados pelo CTA, no período de 2008 a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/ 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FI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 gridSpan="8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: Implantação no CTA do TR HIV em 11/02/2008; TR Sífilis, Hepatites B e C em 31/05/2015. Fonte: Si-C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5223" t="10511" r="13433" b="13551"/>
          <a:stretch/>
        </p:blipFill>
        <p:spPr>
          <a:xfrm>
            <a:off x="-31680" y="-9360"/>
            <a:ext cx="91756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15126" t="10511" r="13533" b="1339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4" descr="http://www3.crt.saude.sp.gov.br/profilaxia/hotsite/imgs/logotipo_pep.jpg"/>
          <p:cNvPicPr/>
          <p:nvPr/>
        </p:nvPicPr>
        <p:blipFill>
          <a:blip r:embed="rId1"/>
          <a:stretch/>
        </p:blipFill>
        <p:spPr>
          <a:xfrm>
            <a:off x="7920" y="0"/>
            <a:ext cx="4203720" cy="179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http://www.otempo.com.br/polopoly_fs/1.666464.1371606074!image/image.jpg_gen/derivatives/main-single-horizontal-img-article-fit_620/image.jpg"/>
          <p:cNvPicPr/>
          <p:nvPr/>
        </p:nvPicPr>
        <p:blipFill>
          <a:blip r:embed="rId2"/>
          <a:stretch/>
        </p:blipFill>
        <p:spPr>
          <a:xfrm>
            <a:off x="2817720" y="4030560"/>
            <a:ext cx="2691000" cy="275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hivclinic.co.in/images/pep-counselling.png"/>
          <p:cNvPicPr/>
          <p:nvPr/>
        </p:nvPicPr>
        <p:blipFill>
          <a:blip r:embed="rId3"/>
          <a:srcRect l="19759" t="20859" r="16524" b="16791"/>
          <a:stretch/>
        </p:blipFill>
        <p:spPr>
          <a:xfrm>
            <a:off x="4211640" y="25560"/>
            <a:ext cx="3313080" cy="176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aids.gov.br/sites/default/files/anexos/page/2012/51276/pep_sexual_risco_transm_jpg_12906.jpg"/>
          <p:cNvPicPr/>
          <p:nvPr/>
        </p:nvPicPr>
        <p:blipFill>
          <a:blip r:embed="rId4"/>
          <a:stretch/>
        </p:blipFill>
        <p:spPr>
          <a:xfrm>
            <a:off x="1527120" y="1989000"/>
            <a:ext cx="536904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pamirtimes.net/wp-content/uploads/2014/12/HIV-AIDS.png"/>
          <p:cNvPicPr/>
          <p:nvPr/>
        </p:nvPicPr>
        <p:blipFill>
          <a:blip r:embed="rId1"/>
          <a:stretch/>
        </p:blipFill>
        <p:spPr>
          <a:xfrm>
            <a:off x="0" y="596880"/>
            <a:ext cx="75596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15223" t="10986" r="13433" b="13711"/>
          <a:stretch/>
        </p:blipFill>
        <p:spPr>
          <a:xfrm>
            <a:off x="-7920" y="-14400"/>
            <a:ext cx="91519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80" y="260280"/>
            <a:ext cx="533232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PREVENÇÃO 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EDUÇÃO DE R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48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alização de exames Hepatites Virai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vencional ou Teste Rápido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 de preservativo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ringas descartáveis de uso pesso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506920" y="28440"/>
            <a:ext cx="3635640" cy="361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umanidade+Preservativo+Feminino"/>
          <p:cNvPicPr/>
          <p:nvPr/>
        </p:nvPicPr>
        <p:blipFill>
          <a:blip r:embed="rId2"/>
          <a:stretch/>
        </p:blipFill>
        <p:spPr>
          <a:xfrm>
            <a:off x="5506920" y="3645000"/>
            <a:ext cx="36021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FICULDA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LTA DE COMPROMETI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LTA DE PROFISSIONAIS CAPACITADO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CNICAS INADEQUADA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ABASTECIMENTO DE TESTES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pacitação Profission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erta de Testes Rápido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ibilidade para o tratamento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TIVAÇÃO PROFISSION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34920" y="1557000"/>
            <a:ext cx="38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4149720"/>
            <a:ext cx="68868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TA Lond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43) 3378-0146 / 3378-0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ta@asms.londrina.pr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ttp://photos1.blogger.com/blogger/6831/1784/320/bean.jpg"/>
          <p:cNvPicPr/>
          <p:nvPr/>
        </p:nvPicPr>
        <p:blipFill>
          <a:blip r:embed="rId2"/>
          <a:stretch/>
        </p:blipFill>
        <p:spPr>
          <a:xfrm>
            <a:off x="155520" y="476280"/>
            <a:ext cx="3264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3.bp.blogspot.com/-8m2r7zqOxQ4/VKwUiFUclPI/AAAAAAAAtSA/OHPu9Jz79Eg/s1600/mrbean072way-3da44b4066fc01642886bbe2660189b6a645d1a0.jpg"/>
          <p:cNvPicPr/>
          <p:nvPr/>
        </p:nvPicPr>
        <p:blipFill>
          <a:blip r:embed="rId1"/>
          <a:stretch/>
        </p:blipFill>
        <p:spPr>
          <a:xfrm>
            <a:off x="31680" y="765000"/>
            <a:ext cx="749304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soropositivowebsite.files.wordpress.com/2015/02/puncao-para-exame-anti-hiv.jpg?w=620&amp;h=264&amp;crop=1"/>
          <p:cNvPicPr/>
          <p:nvPr/>
        </p:nvPicPr>
        <p:blipFill>
          <a:blip r:embed="rId1"/>
          <a:stretch/>
        </p:blipFill>
        <p:spPr>
          <a:xfrm>
            <a:off x="1835280" y="2349360"/>
            <a:ext cx="4416120" cy="3184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405800" y="1197000"/>
            <a:ext cx="52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OROLOGIA PARA 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ixaDeTexto 1"/>
          <p:cNvSpPr/>
          <p:nvPr/>
        </p:nvSpPr>
        <p:spPr>
          <a:xfrm>
            <a:off x="250920" y="549360"/>
            <a:ext cx="7165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0000"/>
                </a:solidFill>
                <a:latin typeface="Arial"/>
              </a:rPr>
              <a:t>CTA / C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Arial"/>
              </a:rPr>
              <a:t>Centro de Testagem e Aconselhamento - LOND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7840" y="33764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708280"/>
            <a:ext cx="69325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ÍCIO  -  19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ROLOGIA HIV / CONVE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EM MÉDIA DE 15 DIAS NÃO REAGENT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30 DIAS PARA REAGENT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STE RÁPID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IV ( 2008 )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EPATITES ( 2012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midias.folhavitoria.com.br/files/2015/01/5400191-teste-hiv.jpg"/>
          <p:cNvPicPr/>
          <p:nvPr/>
        </p:nvPicPr>
        <p:blipFill>
          <a:blip r:embed="rId1"/>
          <a:stretch/>
        </p:blipFill>
        <p:spPr>
          <a:xfrm>
            <a:off x="611280" y="2492280"/>
            <a:ext cx="60674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-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ituído por RNA vir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–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ta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TRANSMISSÃ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A PARENTERAL : é a principal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XUAL / VERTICAL : pouco frequente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PATITE -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ificação : 70 a 85 % dos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5 a 33 % podem evoluir para formas histológicas graves ou cirrose, no período de 20 anos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* Caso não haja intervenção terapêutic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STE RÁPID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HEPATITE -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DESCARTÁ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USO INDIVID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IMUNO-CROMAT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 QUALITATIVO ANTICORPOS                                                                                                          ESPECÍFICOS CONTRA – HCV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TESTE DE TRIAGEM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9:57:57Z</dcterms:created>
  <dc:creator>PN-DST E AIDS</dc:creator>
  <dc:description/>
  <dc:language>en-US</dc:language>
  <cp:lastModifiedBy>SESA</cp:lastModifiedBy>
  <dcterms:modified xsi:type="dcterms:W3CDTF">2015-08-03T17:36:20Z</dcterms:modified>
  <cp:revision>163</cp:revision>
  <dc:subject/>
  <dc:title>Slide 1</dc:title>
</cp:coreProperties>
</file>