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98BE-5B13-44AA-9E58-46BCD830F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C7A0-0C84-4DB2-BBD8-1F2B4640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E7EA-575B-44B1-8BCF-49E11D6EA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7EDD-3B76-4485-9C55-2E8C0C32C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5810-ED44-4D7C-9A22-6132DEBA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4221-1B4D-4964-8E52-B684D4E5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7C99-F82D-415F-9428-5F431C3C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B0AE-A56E-4860-B4FB-9338F59F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04E1-47C7-4E80-A3BC-85270156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F831-0A3B-4420-B142-99F84CC6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9A6E-E1A6-4A08-8BAC-40BB61E3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11B7-6B96-488E-8B2C-CB744FCF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C2B9-70E3-44B8-AEB3-69D9D890133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hyperlink" Target="mailto:vigidant@sesa.pr.gov.br" TargetMode="Externa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_SAUDE_PR2" descr=""/>
          <p:cNvPicPr/>
          <p:nvPr/>
        </p:nvPicPr>
        <p:blipFill>
          <a:blip r:embed="rId1"/>
          <a:stretch/>
        </p:blipFill>
        <p:spPr>
          <a:xfrm>
            <a:off x="3371760" y="692280"/>
            <a:ext cx="2400480" cy="933480"/>
          </a:xfrm>
          <a:prstGeom prst="rect">
            <a:avLst/>
          </a:prstGeom>
          <a:ln w="0">
            <a:noFill/>
          </a:ln>
        </p:spPr>
      </p:pic>
      <p:pic>
        <p:nvPicPr>
          <p:cNvPr id="42" name="LOGO DÉCADA 2011 - 2020" descr=""/>
          <p:cNvPicPr/>
          <p:nvPr/>
        </p:nvPicPr>
        <p:blipFill>
          <a:blip r:embed="rId2"/>
          <a:stretch/>
        </p:blipFill>
        <p:spPr>
          <a:xfrm>
            <a:off x="1835280" y="1844640"/>
            <a:ext cx="2400120" cy="2324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0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148360" y="1628640"/>
            <a:ext cx="1576440" cy="2775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00000" y="4724280"/>
            <a:ext cx="763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dos de mortalidade por Acidentes de Transporte Terrestre no Para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3 e 2014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56000" y="5661000"/>
            <a:ext cx="446400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Divisão de Vigilância das Doenças Não Transmissíveis – CEPI - SV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ua Piquiri, 170 – Rebouças – CEP 80.230-14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uritiba – Paraná – Brasi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one: (41) 3330-4566 Fax: 3330-45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000000"/>
                </a:solidFill>
                <a:uFillTx/>
                <a:latin typeface="Arial"/>
              </a:rPr>
              <a:t>www.saude.pr.gov.br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lang="pt-BR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vigidant@sesa.pr.gov.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7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79280" y="430200"/>
            <a:ext cx="8964720" cy="59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496800"/>
            <a:ext cx="9128160" cy="5862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4200" y="18900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xas de morte por ATT nos municípios de residência do Paraná, 2014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596360" y="115920"/>
            <a:ext cx="1320480" cy="511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148360" y="6237360"/>
            <a:ext cx="3671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nte: SIM PR Elaborado DVDNT-CEPI-S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Dados preliminares, base dados fev..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164360" y="1268280"/>
            <a:ext cx="1800360" cy="14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NÁ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3 municípios sem óbito por 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de óbitos: 29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xa mortalidade por 100 mil: 28,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0280" y="907920"/>
            <a:ext cx="8883720" cy="5689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0920" y="18900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º de mortes por ATT nos municípios de residência  do Paraná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48360" y="6237360"/>
            <a:ext cx="36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nte: SIM PR Elaborado DVDNT-CEPI-SV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93080" y="1052640"/>
            <a:ext cx="1800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de óbitos: 31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 municípios sem óbito por 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451640" y="189000"/>
            <a:ext cx="13208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39640" y="1052640"/>
          <a:ext cx="3887640" cy="5160960"/>
        </p:xfrm>
        <a:graphic>
          <a:graphicData uri="http://schemas.openxmlformats.org/drawingml/2006/table">
            <a:tbl>
              <a:tblPr/>
              <a:tblGrid>
                <a:gridCol w="3044520"/>
                <a:gridCol w="84312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270 Barra do Jacar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302 Boa Esperança do Iguaç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315 Bom Jesus do S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752 Esperança 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755 Fa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785 Flor da Serra do S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810 Flóri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855 Godoy Morei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910 Guapore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950 Guaraqueça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005 Igua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065 Iracema do Oes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160 Ivatu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90 Jundiaí do S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375 Lunardel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435 Manfrinópol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500 Marile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545 Marquin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590 Mira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600 Mirasel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572000" y="1197000"/>
          <a:ext cx="3817800" cy="5010120"/>
        </p:xfrm>
        <a:graphic>
          <a:graphicData uri="http://schemas.openxmlformats.org/drawingml/2006/table">
            <a:tbl>
              <a:tblPr/>
              <a:tblGrid>
                <a:gridCol w="2989440"/>
                <a:gridCol w="8283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650 Nova Aliança do Iva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830 Paranapoe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920 Pinhal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010 Porto Amazon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015 Porto Barrei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030 Porto Vitó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035 Pranchi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085 Quatro Pon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130 Rancho Aleg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135 Rancho Alegre D'Oes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175 Reserva do Iguaç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217 Rio Branco do Iva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270 Sabáu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360 Santa Inê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430 Santo Antônio do Paraí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555 São Manoel do Paran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627 Saudade do Iguaç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863 Doutor Ulys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865 Virmo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870 Vitori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684360" y="333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 Municípios de  Residência  sem óbitos por ATT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451640" y="189000"/>
            <a:ext cx="13208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58920" y="620640"/>
            <a:ext cx="8785080" cy="589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0920" y="18900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º de mortes por ATT nos municípios de residência  do Paraná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93080" y="1052640"/>
            <a:ext cx="1800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de óbitos: 29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3 municípios sem óbito por 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48360" y="6237360"/>
            <a:ext cx="36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nte: SIM PR Elaborado DVDNT-CEPI-SV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51640" y="189000"/>
            <a:ext cx="13208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42920" y="1052640"/>
          <a:ext cx="8856720" cy="5376600"/>
        </p:xfrm>
        <a:graphic>
          <a:graphicData uri="http://schemas.openxmlformats.org/drawingml/2006/table">
            <a:tbl>
              <a:tblPr/>
              <a:tblGrid>
                <a:gridCol w="4065480"/>
                <a:gridCol w="398520"/>
                <a:gridCol w="3351240"/>
                <a:gridCol w="104148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010 Abati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545 Marquin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020 Adrianópol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550 Marumb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165 Arapu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590 Mira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304 Boa Ventura de São Ro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322 Bom Sucesso do S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965 Pitangueir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347 Cafezal do S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970 Planaltina do Paran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405 Campo Boni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995 Pontal do Paran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712 Diamante do S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010 Porto Amazon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863 Doutor Ulys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030 Porto Vitó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773 Fernandes Pinhei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125 Ramilân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785 Flor da Serra do S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175 Reserva do Iguaç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810 Flóri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210 Rio B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910 Guapore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217 Rio Branco do Iva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950 Guaraqueça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310 Santa Amé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975 Ibe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360 Santa Inê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000 Iguaraç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385 Santa Maria do Oes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005 Igua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555 São Manoel do Paran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435 Manfrinópol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590 São Pedro do Paran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627 Saudade do Iguaç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324000" y="189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3 Municípios sem óbitos por ATT , PR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451640" y="189000"/>
            <a:ext cx="13208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8705880" cy="5578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50920" y="18900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º de mortes por ATT nos municípios de ocorrência  do Paraná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93080" y="1052640"/>
            <a:ext cx="1800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de óbitos: 31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7 municípios sem óbito por 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8360" y="6237360"/>
            <a:ext cx="36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nte: SIM PR Elaborado DVDNT-CEPI-SV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451640" y="189000"/>
            <a:ext cx="13208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68360" y="620640"/>
          <a:ext cx="2087640" cy="6072120"/>
        </p:xfrm>
        <a:graphic>
          <a:graphicData uri="http://schemas.openxmlformats.org/drawingml/2006/table">
            <a:tbl>
              <a:tblPr/>
              <a:tblGrid>
                <a:gridCol w="208764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045 Altamira do Paran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165 Arapu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185 Ariranha do Iva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250 Barbosa Ferra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270 Barra do Jacar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275 Bela Vista da Caro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290 Bituru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300 Boa Esperanç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302 Boa Esperança do Iguaç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315 Bom Jesus do S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322 Bom Sucesso do S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335 Bragane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395 Campina do Sim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405 Campo Boni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520 Cerro Az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655 Corumbataí do S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725 Dourad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863 Doutor Ulys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754 Espigão Alto do Iguaç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820 Formosa do Oes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855 Godoy Morei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865 Goiox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910 Guapore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950 Guaraqueça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005 Igua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2603520" y="620640"/>
          <a:ext cx="1968480" cy="6072120"/>
        </p:xfrm>
        <a:graphic>
          <a:graphicData uri="http://schemas.openxmlformats.org/drawingml/2006/table">
            <a:tbl>
              <a:tblPr/>
              <a:tblGrid>
                <a:gridCol w="196848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030 Inaj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040 Indianópol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065 Iracema do Oes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160 Ivatu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170 Jabo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60 Jardim Oli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90 Jundiaí do S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360 Loba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373 Luizi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375 Lunardel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380 Lupionópol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435 Manfrinópol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470 Maria Hele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500 Marile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535 Marip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545 Marquin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573 Mato R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585 Merced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590 Mira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600 Mirasel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630 Munhoz de Me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650 Nova Aliança do Iva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721 Nova Santa Bárba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722 Nova Santa Ro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729 Novo Itacolom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716360" y="836640"/>
          <a:ext cx="2073240" cy="5829120"/>
        </p:xfrm>
        <a:graphic>
          <a:graphicData uri="http://schemas.openxmlformats.org/drawingml/2006/table">
            <a:tbl>
              <a:tblPr/>
              <a:tblGrid>
                <a:gridCol w="207324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830 Paranapoe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925 Pinhal de São Be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920 Pinhal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965 Pitangueir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015 Porto Barrei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070 Quatigu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085 Quatro Pon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125 Ramilân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130 Rancho Aleg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135 Rancho Alegre D'Oes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175 Reserva do Iguaç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210 Rio B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217 Rio Branco do Iva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265 Rosário do Iva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280 Salgado Fil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310 Santa Amé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340 Santa F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360 Santa Inê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430 Santo Antônio do Paraí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555 São Manoel do Paran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590 São Pedro do Paran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610 São Tom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620 Sapope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665 Sul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6804000" y="981000"/>
          <a:ext cx="2073240" cy="728640"/>
        </p:xfrm>
        <a:graphic>
          <a:graphicData uri="http://schemas.openxmlformats.org/drawingml/2006/table">
            <a:tbl>
              <a:tblPr/>
              <a:tblGrid>
                <a:gridCol w="207324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785 Três Barras do Paran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788 Tunas do Paran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880 Xambrê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395280" y="189000"/>
            <a:ext cx="820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18900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7 Municípios sem ocorrência de óbitos por ATT, Paraná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451640" y="189000"/>
            <a:ext cx="13208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84040" y="1052640"/>
            <a:ext cx="8574120" cy="5489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14200" y="18900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º de mortes por ATT nos municípios de ocorrência  do Paraná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93080" y="1628640"/>
            <a:ext cx="1800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de óbitos: 3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4 municípios sem óbito por 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48360" y="6237360"/>
            <a:ext cx="36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nte: SIM PR Elaborado DVDNT-CEPI-SV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451640" y="189000"/>
            <a:ext cx="13208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250920" y="1052640"/>
          <a:ext cx="2087640" cy="5100480"/>
        </p:xfrm>
        <a:graphic>
          <a:graphicData uri="http://schemas.openxmlformats.org/drawingml/2006/table">
            <a:tbl>
              <a:tblPr/>
              <a:tblGrid>
                <a:gridCol w="208764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010 Abati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045 Altamira do Paran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070 Alto Piqui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165 Arapu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220 Atala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270 Barra do Jacar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275 Bela Vista da Caro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300 Boa Esperanç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302 Boa Esperança do Iguaç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305 Boa Vista da Apareci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315 Bom Jesus do S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320 Bom Suces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322 Bom Sucesso do S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330 Borrazópol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335 Bragane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337 Brasilândia do S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345 Cafelân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520 Cerro Az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610 Conselheiro Mairin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715 Diamante D'Oes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863 Doutor Ulys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2502000" y="1125360"/>
          <a:ext cx="2070000" cy="5100480"/>
        </p:xfrm>
        <a:graphic>
          <a:graphicData uri="http://schemas.openxmlformats.org/drawingml/2006/table">
            <a:tbl>
              <a:tblPr/>
              <a:tblGrid>
                <a:gridCol w="207000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754 Espigão Alto do Iguaç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755 Fa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855 Godoy Morei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870 Grandes R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910 Guapore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950 Guaraqueça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965 Honório Ser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005 Igua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007 Imba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065 Iracema do Oes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100 Itambarac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110 Itamb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20 Janiópol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40 Japur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60 Jardim Oli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90 Jundiaí do S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300 Jussa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340 Leópol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342 Lidianópol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380 Lupionópol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435 Manfrinópol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427640" y="1125360"/>
          <a:ext cx="2070000" cy="5100480"/>
        </p:xfrm>
        <a:graphic>
          <a:graphicData uri="http://schemas.openxmlformats.org/drawingml/2006/table">
            <a:tbl>
              <a:tblPr/>
              <a:tblGrid>
                <a:gridCol w="207000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545 Marquin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590 Mira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600 Mirasel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680 Nova Can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721 Nova Santa Bárba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745 Ouro Verde do Oes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830 Paranapoe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845 Pato Brag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860 Paula Frei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925 Pinhal de São Be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920 Pinhal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965 Pitangueir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970 Planaltina do Paran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995 Pontal do Paran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010 Porto Amazon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015 Porto Barrei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125 Ramilân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130 Rancho Aleg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135 Rancho Alegre D'Oes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175 Reserva do Iguaç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210 Rio B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6443640" y="1197000"/>
          <a:ext cx="2181240" cy="5100480"/>
        </p:xfrm>
        <a:graphic>
          <a:graphicData uri="http://schemas.openxmlformats.org/drawingml/2006/table">
            <a:tbl>
              <a:tblPr/>
              <a:tblGrid>
                <a:gridCol w="218124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217 Rio Branco do Iva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220 Rio Branco do S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280 Salgado Fil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310 Santa Amé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320 Santa Cecília do Pav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360 Santa Inê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400 Santana do Itarar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430 Santo Antônio do Paraí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460 São Carlos do Iva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510 São João do Triunf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540 São José da Boa Vis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555 São Manoel do Paran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590 São Pedro do Paran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600 São Sebastião da Amorei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610 São Tom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620 Sapope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627 Saudade do Iguaç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635 Serranópolis do Iguaç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665 Sul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788 Tunas do Paran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830 Unifl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468360" y="18900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 Municípios sem ocorrência de óbitos por ATT, Paraná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451640" y="189000"/>
            <a:ext cx="13208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2T12:08:15Z</dcterms:created>
  <dc:creator>SESA</dc:creator>
  <dc:description/>
  <dc:language>en-US</dc:language>
  <cp:lastModifiedBy>SESA</cp:lastModifiedBy>
  <dcterms:modified xsi:type="dcterms:W3CDTF">2015-03-17T18:31:25Z</dcterms:modified>
  <cp:revision>15</cp:revision>
  <dc:subject/>
  <dc:title>Slide 1</dc:title>
</cp:coreProperties>
</file>