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41C-0C2E-4CCE-A3E5-07230D0A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4E0-8956-46C4-9316-5AE00D27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308-C726-44F8-B162-6578D5E1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AA-92CE-4407-BDF1-5DBB74DD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CAD-677A-40D9-BDEC-32BA20F6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2B4-D7CA-4C84-BAD3-EC963B0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938-7ED0-4DB0-841D-6DE14E85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767-7896-4C78-9DD2-E98562B8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CA4-7504-4BCE-899B-1CF3C9E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F6C-1A5A-4149-8F0A-831C2FB0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372-D876-4193-9327-A46E8104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8B6-40B5-4D2F-AF21-67CCCA2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6C4-9097-43D8-822C-B1E4F51623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mailto:vigidant@sesa.pr.gov.br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_SAUDE_PR2" descr=""/>
          <p:cNvPicPr/>
          <p:nvPr/>
        </p:nvPicPr>
        <p:blipFill>
          <a:blip r:embed="rId1"/>
          <a:stretch/>
        </p:blipFill>
        <p:spPr>
          <a:xfrm>
            <a:off x="3371760" y="692280"/>
            <a:ext cx="240048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LOGO DÉCADA 2011 - 2020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240012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0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1576440" cy="2775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472428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de mortalidade por Acidentes de Transporte Terrestre no Par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e 201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5661000"/>
            <a:ext cx="446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ivisão de Vigilância das Doenças Não Transmissíveis – CEPI - 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ua Piquiri, 170 – Rebouças – CEP 80.230-1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itiba – Paraná – Bras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e: (41) 3330-4566 Fax: 3330-4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www.saude.pr.gov.b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igidant@sesa.pr.gov.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430200"/>
            <a:ext cx="896472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96800"/>
            <a:ext cx="9128160" cy="586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420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as de morte por ATT nos municípios de residência do Paraná, 201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96360" y="115920"/>
            <a:ext cx="1320480" cy="51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48360" y="623736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Dados preliminares, base dados fev.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1268280"/>
            <a:ext cx="180036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NÁ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2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xa mortalidade por 100 mil: 28,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0280" y="907920"/>
            <a:ext cx="8883720" cy="5689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residência  do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9640" y="1052640"/>
          <a:ext cx="3887640" cy="5160960"/>
        </p:xfrm>
        <a:graphic>
          <a:graphicData uri="http://schemas.openxmlformats.org/drawingml/2006/table">
            <a:tbl>
              <a:tblPr/>
              <a:tblGrid>
                <a:gridCol w="3044520"/>
                <a:gridCol w="8431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2 Esperança 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5 Fa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85 Flor da Serr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10 Fló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60 Ivat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5 Lunarde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00 Mari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0" y="1197000"/>
          <a:ext cx="3817800" cy="5010120"/>
        </p:xfrm>
        <a:graphic>
          <a:graphicData uri="http://schemas.openxmlformats.org/drawingml/2006/table">
            <a:tbl>
              <a:tblPr/>
              <a:tblGrid>
                <a:gridCol w="2989440"/>
                <a:gridCol w="8283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50 Nova Alianç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0 Porto Vitó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5 Pranch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85 Quatro Po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70 Sabáu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5 Virmo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70 Vito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84360" y="333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 Municípios de  Residência  sem óbitos por AT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920" y="620640"/>
            <a:ext cx="8785080" cy="589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residência  do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29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42920" y="1052640"/>
          <a:ext cx="8856720" cy="5376600"/>
        </p:xfrm>
        <a:graphic>
          <a:graphicData uri="http://schemas.openxmlformats.org/drawingml/2006/table">
            <a:tbl>
              <a:tblPr/>
              <a:tblGrid>
                <a:gridCol w="4065480"/>
                <a:gridCol w="398520"/>
                <a:gridCol w="3351240"/>
                <a:gridCol w="1041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10 Abati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20 Adr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50 Marum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4 Boa Ventura de São R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47 Cafezal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70 Planaltin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405 Campo Bon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95 Ponta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12 Diamant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30 Porto Vitó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73 Fernandes Pinh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85 Flor da Serr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10 Flór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75 Ib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0 Iguar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85 Santa Mari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24000" y="189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 Municípios sem óbitos por ATT , PR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05880" cy="5578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ocorrência  do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1052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1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620640"/>
          <a:ext cx="2087640" cy="60721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45 Altamir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85 Ariranh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50 Barbosa Ferr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5 Bela Vista da Ca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90 Bituru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0 Boa Esperanç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5 Bragan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95 Campina do Sim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405 Campo Bon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520 Cerro Az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655 Corumbat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25 Dourad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4 Espigão Alto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20 Formos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65 Goiox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603520" y="620640"/>
          <a:ext cx="1968480" cy="6072120"/>
        </p:xfrm>
        <a:graphic>
          <a:graphicData uri="http://schemas.openxmlformats.org/drawingml/2006/table">
            <a:tbl>
              <a:tblPr/>
              <a:tblGrid>
                <a:gridCol w="1968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30 Inaj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40 Ind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60 Ivat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70 Jabo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60 Jardim Oli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60 Lob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3 Luiz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75 Lunarde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80 Lupio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70 Maria He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00 Maril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35 Mari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73 Mato R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85 Merce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30 Munhoz de Me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50 Nova Aliança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1 Nova San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2 Nova Santa R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9 Novo Itacolo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16360" y="836640"/>
          <a:ext cx="2073240" cy="582912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5 Pinhal de São B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70 Quatigu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85 Quatro Po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65 Rosári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80 Salgado Fil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40 Santa F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10 São Tom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0 Sapop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65 S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804000" y="981000"/>
          <a:ext cx="2073240" cy="728640"/>
        </p:xfrm>
        <a:graphic>
          <a:graphicData uri="http://schemas.openxmlformats.org/drawingml/2006/table">
            <a:tbl>
              <a:tblPr/>
              <a:tblGrid>
                <a:gridCol w="2073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5 Três Barr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8 Tun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80 Xambr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95280" y="189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9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 Municípios sem ocorrência de óbitos por ATT, Paraná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040" y="1052640"/>
            <a:ext cx="8574120" cy="548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4200" y="189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º de mortes por ATT nos municípios de ocorrência  do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162864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de óbitos: 3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 municípios sem óbito por 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6237360"/>
            <a:ext cx="36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SIM PR Elaborado DVDNT-CEPI-S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1052640"/>
          <a:ext cx="2087640" cy="51004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10 Abati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45 Altamir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70 Alto Piqui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165 Arapu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20 Atal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0 Barra do Jac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275 Bela Vista da Ca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0 Boa Esperanç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2 Boa Esperanç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05 Boa Vista da Aparec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15 Bom Jesus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0 Bom Suce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22 Bom Suce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0 Borraz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5 Bragan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37 Brasilândia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345 Cafe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520 Cerro Az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610 Conselheiro Mairin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15 Diamant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63 Doutor Uly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502000" y="1125360"/>
          <a:ext cx="2070000" cy="5100480"/>
        </p:xfrm>
        <a:graphic>
          <a:graphicData uri="http://schemas.openxmlformats.org/drawingml/2006/table">
            <a:tbl>
              <a:tblPr/>
              <a:tblGrid>
                <a:gridCol w="207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4 Espigão Alto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755 Fa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55 Godoy 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870 Grandes 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10 Guapor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50 Guaraqueça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965 Honório Ser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5 Igua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07 Imba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065 Iracema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00 Itambara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110 Itamb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20 Jani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40 Japu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60 Jardim Oli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90 Jundiaí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00 Juss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40 Le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42 Lidia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380 Lupio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435 Manfrinópo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427640" y="1125360"/>
          <a:ext cx="2070000" cy="5100480"/>
        </p:xfrm>
        <a:graphic>
          <a:graphicData uri="http://schemas.openxmlformats.org/drawingml/2006/table">
            <a:tbl>
              <a:tblPr/>
              <a:tblGrid>
                <a:gridCol w="20700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45 Marquin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590 Mi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00 Mirasel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680 Nova Can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21 Nova San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745 Ouro Verde do 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30 Paranapo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45 Pato Bra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860 Paula Frei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5 Pinhal de São B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20 Pinhal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65 Pitanguei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70 Planaltina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995 Ponta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0 Porto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015 Porto Barr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25 Ramilâ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0 Rancho Aleg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35 Rancho Alegre D'O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175 Reserva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0 Rio B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43640" y="1197000"/>
          <a:ext cx="2181240" cy="5100480"/>
        </p:xfrm>
        <a:graphic>
          <a:graphicData uri="http://schemas.openxmlformats.org/drawingml/2006/table">
            <a:tbl>
              <a:tblPr/>
              <a:tblGrid>
                <a:gridCol w="2181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17 Rio Branco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20 Rio Branc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280 Salgado Fil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10 Santa Amé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20 Santa Cecília do Pav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360 Santa Inê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00 Santana do Itarar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30 Santo Antônio do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460 São Carlos do Iva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10 São João do Triu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40 São José da Boa Vi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55 São Manoel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590 São Pedro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00 São Sebastião da Amore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10 São Tom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0 Sapop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27 Saudade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35 Serranópolis do Iguaç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665 S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788 Tunas do 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830 Unif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68360" y="189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 Municípios sem ocorrência de óbitos por ATT, Paraná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3208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12:08:15Z</dcterms:created>
  <dc:creator>SESA</dc:creator>
  <dc:description/>
  <dc:language>en-US</dc:language>
  <cp:lastModifiedBy>SESA</cp:lastModifiedBy>
  <dcterms:modified xsi:type="dcterms:W3CDTF">2015-03-17T18:31:25Z</dcterms:modified>
  <cp:revision>15</cp:revision>
  <dc:subject/>
  <dc:title>Slide 1</dc:title>
</cp:coreProperties>
</file>